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D1D6-CE7F-474D-A216-A2D1BA86F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9551-4B49-46F1-AEA6-404DC9DD6D8F}"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1677-98AE-49BB-BCF2-771B40B2744C}"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A187-72CA-4496-832E-49552AA8CF8A}"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0710-DBCE-4FED-AFD5-A0738582D01E}"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8ADB-B99D-4C2F-AE21-600C425C0BEE}"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61B19-1711-4259-BB6F-2F7A87F91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D2602-85C9-465B-9D85-BF06FBDE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9B41E-2B68-4FC9-8D4C-6DD25054C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BD992-9C6F-49AC-A51C-AFF604716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662DE-2A6C-42C5-B3B9-3C974B21F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41904-1684-4DB5-B779-6AD029B7E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89B77-A979-413F-9803-4877F4DDC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51105-504B-4BF4-B520-7FE818CF9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61B6C-5EA5-424E-AF36-56A506BDE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FF126-1E52-45B3-A9C1-4A40AF74D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D5716-7AC6-40F4-A270-CB1259F69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B4120-D9B5-483D-81AC-367CFD05C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9F75A-8766-4160-A3D2-A09436E6D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1899D-BD54-418E-8160-D40CD8A1A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98372-309E-4587-AD6D-78C42373E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56B4E-92D9-4589-98BF-799D2FF80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1B4A0-2322-4935-AE49-879A5AC05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3C52DC-923F-477D-9B9E-647954A56D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99CEA-C0D5-4843-8A46-9816C4302D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678F98-A3A5-406D-86D0-F95645037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647B6D-A6B2-435B-918C-5524381FC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8123B-0804-4C27-9F36-2A84DC1CA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1FBF-DAAC-45D3-B956-0211A05C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15DF1-8EB7-4A53-A398-ACA5561C4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92F5E-B404-40FF-AB52-EE60FA4C5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FCF90-5E57-4740-BFFF-84FFC8AB5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1D913-0ED0-49ED-A3C6-5CC87CFA9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0518F8-E8BF-4C5D-9D0F-6C06EE7790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C6837B-38C8-43A2-92DC-1553AE342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67AF9A-4EFD-477A-81E9-3245EFF9C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C0033-F71D-4F69-BD76-D2118A1CBE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3DFD5-2C12-41FE-BDCC-866CEE633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A1EB9-D93A-4D01-A9D5-90E71E435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E48D-F118-4812-8322-ACE8AC9C9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37722-89F0-4E4B-8522-5A21D4F53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2C84C-B4EC-41EF-A6C9-0710BD095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3C3C0-D022-4D15-8A9D-F368A94FD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9E723-89BA-466C-9650-CB59EC0DC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CFEE9-829D-4B7F-BD3F-5C79FB225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35229-946F-418D-9FAB-1219BC772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DD868-7D1A-4FB9-A71F-6DF81AB56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94C91-5710-4354-B0D0-1CA15EDA2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3CFC37-6F8C-453A-B07E-11D84CECA8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EB7F-8D97-4295-92F5-44F6084E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D993-605A-4353-ADE0-AAD930AC5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CD908-AFB1-4772-8673-02CAF61B0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6C59-880F-487A-9854-F4072EEAA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FD6E-AB5B-48E7-9B89-7132D3C02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1014-8398-43A1-BB71-3049FF9C668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3"/>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05A7-6978-4EA0-8454-3B28509DB0C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3"/>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114E-C7BD-4562-AA0D-B4A74DDFD74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5200"/>
              <a:chOff x="-19080" y="248040"/>
              <a:chExt cx="9181080" cy="565200"/>
            </a:xfrm>
          </p:grpSpPr>
          <p:pic>
            <p:nvPicPr>
              <p:cNvPr id="157" name="Freeform 12" descr=""/>
              <p:cNvPicPr/>
              <p:nvPr/>
            </p:nvPicPr>
            <p:blipFill>
              <a:blip r:embed="rId3"/>
              <a:stretch/>
            </p:blipFill>
            <p:spPr>
              <a:xfrm>
                <a:off x="-3240" y="248040"/>
                <a:ext cx="9165240" cy="5652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6A2F-D8C0-4D16-B895-EDCEB60ABB7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52320" y="920880"/>
            <a:ext cx="8388360" cy="153648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002060"/>
                </a:solidFill>
                <a:uFillTx/>
                <a:latin typeface="Constantia"/>
              </a:rPr>
              <a:t>Prof. ROSOGA ANCA IONELA </a:t>
            </a:r>
            <a:endParaRPr b="0" lang="en-US" sz="2400" spc="-1" strike="noStrike">
              <a:solidFill>
                <a:srgbClr val="ffffff"/>
              </a:solidFill>
              <a:latin typeface="Constantia"/>
            </a:endParaRPr>
          </a:p>
        </p:txBody>
      </p:sp>
      <p:pic>
        <p:nvPicPr>
          <p:cNvPr id="213" name="Picture 2" descr=""/>
          <p:cNvPicPr/>
          <p:nvPr/>
        </p:nvPicPr>
        <p:blipFill>
          <a:blip r:embed="rId2"/>
          <a:stretch/>
        </p:blipFill>
        <p:spPr>
          <a:xfrm>
            <a:off x="1571760" y="3714840"/>
            <a:ext cx="1485720" cy="179064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000000"/>
                </a:solidFill>
                <a:latin typeface="Calibri"/>
              </a:rPr>
              <a:t>Quels animaux connaissez-vous? </a:t>
            </a:r>
            <a:endParaRPr b="0" lang="en-US" sz="2600" spc="-1" strike="noStrike">
              <a:solidFill>
                <a:srgbClr val="04617b"/>
              </a:solidFill>
              <a:latin typeface="Calibri"/>
            </a:endParaRPr>
          </a:p>
        </p:txBody>
      </p:sp>
      <p:pic>
        <p:nvPicPr>
          <p:cNvPr id="215" name="Content Placeholder 4" descr=""/>
          <p:cNvPicPr/>
          <p:nvPr/>
        </p:nvPicPr>
        <p:blipFill>
          <a:blip r:embed="rId1"/>
          <a:stretch/>
        </p:blipFill>
        <p:spPr>
          <a:xfrm>
            <a:off x="3565440" y="268200"/>
            <a:ext cx="5127840" cy="5864400"/>
          </a:xfrm>
          <a:prstGeom prst="rect">
            <a:avLst/>
          </a:prstGeom>
          <a:ln w="0">
            <a:noFill/>
          </a:ln>
        </p:spPr>
      </p:pic>
      <p:sp>
        <p:nvSpPr>
          <p:cNvPr id="216"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Aimons les animaux!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 Tu dis que tu aimes les fleurs et tu leur coupes la queue, tu dis que tu aimes les chiens et tu leur mets une laisse, tu dis que tu aimes les oiseaux et tu les mets en cage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Jean Cocteau </a:t>
            </a:r>
            <a:endParaRPr b="0" lang="en-US" sz="1400" spc="-1" strike="noStrike">
              <a:solidFill>
                <a:srgbClr val="000000"/>
              </a:solidFill>
              <a:latin typeface="Constanti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324000" y="1639800"/>
            <a:ext cx="8173800" cy="4511880"/>
          </a:xfrm>
          <a:prstGeom prst="rect">
            <a:avLst/>
          </a:prstGeom>
          <a:ln w="0">
            <a:noFill/>
          </a:ln>
        </p:spPr>
      </p:pic>
      <p:sp>
        <p:nvSpPr>
          <p:cNvPr id="218" name="PlaceHolder 1"/>
          <p:cNvSpPr>
            <a:spLocks noGrp="1"/>
          </p:cNvSpPr>
          <p:nvPr>
            <p:ph/>
          </p:nvPr>
        </p:nvSpPr>
        <p:spPr>
          <a:xfrm>
            <a:off x="857160" y="571320"/>
            <a:ext cx="7772400" cy="571320"/>
          </a:xfrm>
          <a:prstGeom prst="rect">
            <a:avLst/>
          </a:prstGeom>
          <a:noFill/>
          <a:ln w="0">
            <a:noFill/>
          </a:ln>
        </p:spPr>
        <p:txBody>
          <a:bodyPr lIns="45720" rIns="4572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u="sng">
                <a:solidFill>
                  <a:srgbClr val="11014b"/>
                </a:solidFill>
                <a:uFillTx/>
                <a:latin typeface="Constantia"/>
              </a:rPr>
              <a:t>PEUX-TU DEVINER?</a:t>
            </a:r>
            <a:endParaRPr b="0" lang="en-US" sz="3200" spc="-1" strike="noStrike">
              <a:solidFill>
                <a:srgbClr val="ffffff"/>
              </a:solidFill>
              <a:latin typeface="Constanti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244440" y="817560"/>
            <a:ext cx="8034480" cy="1882800"/>
          </a:xfrm>
          <a:prstGeom prst="rect">
            <a:avLst/>
          </a:prstGeom>
          <a:ln w="0">
            <a:noFill/>
          </a:ln>
        </p:spPr>
      </p:pic>
      <p:sp>
        <p:nvSpPr>
          <p:cNvPr id="220" name="PlaceHolder 1"/>
          <p:cNvSpPr>
            <a:spLocks noGrp="1"/>
          </p:cNvSpPr>
          <p:nvPr>
            <p:ph type="subTitle"/>
          </p:nvPr>
        </p:nvSpPr>
        <p:spPr>
          <a:xfrm>
            <a:off x="642600" y="3357360"/>
            <a:ext cx="7715160" cy="178596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 </a:t>
            </a:r>
            <a:r>
              <a:rPr b="1" lang="fr-CH" sz="2800" spc="-1" strike="noStrike">
                <a:solidFill>
                  <a:srgbClr val="000000"/>
                </a:solidFill>
                <a:latin typeface="Constantia"/>
              </a:rPr>
              <a:t>Je vis dans la forêt. Je mange de la viande. J'ai des petites oreilles et une belle queue.</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457200" y="781200"/>
            <a:ext cx="8272440" cy="1919160"/>
          </a:xfrm>
          <a:prstGeom prst="rect">
            <a:avLst/>
          </a:prstGeom>
          <a:ln w="0">
            <a:noFill/>
          </a:ln>
        </p:spPr>
      </p:pic>
      <p:sp>
        <p:nvSpPr>
          <p:cNvPr id="222" name="PlaceHolder 1"/>
          <p:cNvSpPr>
            <a:spLocks noGrp="1"/>
          </p:cNvSpPr>
          <p:nvPr>
            <p:ph type="subTitle"/>
          </p:nvPr>
        </p:nvSpPr>
        <p:spPr>
          <a:xfrm>
            <a:off x="785880" y="3500280"/>
            <a:ext cx="7786800" cy="213840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c00000"/>
                </a:solidFill>
                <a:latin typeface="Constantia"/>
              </a:rPr>
              <a:t> </a:t>
            </a:r>
            <a:r>
              <a:rPr b="1" lang="fr-CH" sz="2800" spc="-1" strike="noStrike">
                <a:solidFill>
                  <a:srgbClr val="000000"/>
                </a:solidFill>
                <a:latin typeface="Constantia"/>
              </a:rPr>
              <a:t>Je suis le meilleur ami de l`homme. Je ne suis pas bon ami avec le chat. </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0T14:23:27Z</dcterms:created>
  <dc:creator>Flori</dc:creator>
  <dc:description/>
  <dc:language>en-US</dc:language>
  <cp:lastModifiedBy>Claudia</cp:lastModifiedBy>
  <dcterms:modified xsi:type="dcterms:W3CDTF">2010-05-30T16:56:23Z</dcterms:modified>
  <cp:revision>26</cp:revision>
  <dc:subject/>
  <dc:title>Slide 1</dc:title>
</cp:coreProperties>
</file>