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6E17-817D-4C93-98D7-2614DFF86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6504-19A3-4B40-809C-AC8B3B207AFF}"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B8D5-09C9-473F-BB4B-38440B851637}"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48BB-FD15-48E9-BB4D-089865933F48}"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D329-6A35-414E-B957-7FC18A3BBBA7}"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DADC-43B5-4B25-9235-C8F0504AE74A}"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46FC6-4A9E-4A32-B0EE-F6DA126AF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A5293-A863-45E0-A066-18B1689D8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1FC29-182D-4640-8E1B-BAB0AF37F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0D8DA-57BB-4A52-AFA7-95F777575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92A65-AC52-4843-BB19-AE83087B6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AECE2-B77F-4F4A-886F-EDD5EEED6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59D41-560B-43E0-912C-634676239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84A6C-4F21-4BD2-82F2-2D9606C1E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82724-C62E-4FE6-80E3-B723052C1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9FC96-7E12-4DB5-BED7-8F2E8837E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C4EC4-58AF-4870-B17E-82258866E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1C076-99A0-4EF0-8987-3001224B4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66EC4-03B0-4532-9328-0B130BAD6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4A984-F1C0-409A-89F5-4E0FF08ED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D7A48-4B96-407B-B026-2C6DF4F94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99F23-407C-4D3D-BFD4-8652E36F2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8D5F7-6C65-4E74-BB8F-511341EF2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4713A5-FE81-47D1-BDC3-1129D6E21B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43000-499E-4A1C-AC83-143456CE7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903AB-71E4-440F-80B2-F7827C254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AD2F9-4AFA-4FE2-A07C-EFDD96A655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7BF2AA-0F58-41EF-B5D2-1AC01C2D31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93ABD-B6E0-435D-976D-D3DE7C859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986DB3-7501-4BF1-A068-83F351A7D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DA8618-0AA7-499F-BCBC-963652022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E4547-A05F-449C-9CBD-26208E090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33F37-D5E8-4505-AD3A-4C121D67DF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E0F54-2404-4FF5-B71C-3AADE807DC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89EF82-2258-47B9-938F-738A8BB500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F37F2F-26CB-4008-95E8-C53B573963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2007C1-9C19-4855-B55D-21E402B089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A8067-85D0-4D28-B735-A3B9D8C576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8B6800-AABE-4233-A797-444090880F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526E4-EECA-4A7D-874A-2FD715C89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1D350-0E5A-481E-9EA1-54E8994FE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C55BBA-6C90-48D0-950E-A6C69AEF9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823C3-9CCD-4F3D-B0A2-C1BA5C64FC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14B45-8988-4847-8028-E2B6BEDBF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48942-4778-4644-8B7B-211B3D6D2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77BA18-6AC2-472A-BC67-097A5AD80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72708-41B2-4377-A667-EC443B8C7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11988F-6F88-47BA-99FA-0E43CE8104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4504B5-D462-4743-8DF9-1609D29339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CC911-2C71-4494-AB4C-560996EFC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4A559-E1D4-4361-A6BF-BCFE8A12D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FBDD0-DBF7-419C-A50C-7B565EB67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2046E-5994-4B03-86EC-B4365DAA8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4F2FD-2DC5-40FD-A5FD-7EE2ACF1A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62AE-4B18-4F95-8329-FCE49467581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3"/>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B0E9-3C7E-48C5-8ABB-3BA98CF4708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3"/>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E92E-7854-4883-BE8D-774FE331183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5200"/>
              <a:chOff x="-19080" y="248040"/>
              <a:chExt cx="9181080" cy="565200"/>
            </a:xfrm>
          </p:grpSpPr>
          <p:pic>
            <p:nvPicPr>
              <p:cNvPr id="157" name="Freeform 12" descr=""/>
              <p:cNvPicPr/>
              <p:nvPr/>
            </p:nvPicPr>
            <p:blipFill>
              <a:blip r:embed="rId3"/>
              <a:stretch/>
            </p:blipFill>
            <p:spPr>
              <a:xfrm>
                <a:off x="-3240" y="248040"/>
                <a:ext cx="9165240" cy="565200"/>
              </a:xfrm>
              <a:prstGeom prst="rect">
                <a:avLst/>
              </a:prstGeom>
              <a:ln w="0">
                <a:noFill/>
              </a:ln>
            </p:spPr>
          </p:pic>
          <p:sp>
            <p:nvSpPr>
              <p:cNvPr id="1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5AF4-B68F-4DA7-9362-C4AD858DE6F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52320" y="920880"/>
            <a:ext cx="8388360" cy="153648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002060"/>
                </a:solidFill>
                <a:uFillTx/>
                <a:latin typeface="Constantia"/>
              </a:rPr>
              <a:t>Prof. ROSOGA ANCA IONELA </a:t>
            </a:r>
            <a:endParaRPr b="0" lang="en-US" sz="2400" spc="-1" strike="noStrike">
              <a:solidFill>
                <a:srgbClr val="ffffff"/>
              </a:solidFill>
              <a:latin typeface="Constantia"/>
            </a:endParaRPr>
          </a:p>
        </p:txBody>
      </p:sp>
      <p:pic>
        <p:nvPicPr>
          <p:cNvPr id="213" name="Picture 2" descr=""/>
          <p:cNvPicPr/>
          <p:nvPr/>
        </p:nvPicPr>
        <p:blipFill>
          <a:blip r:embed="rId2"/>
          <a:stretch/>
        </p:blipFill>
        <p:spPr>
          <a:xfrm>
            <a:off x="1571760" y="3714840"/>
            <a:ext cx="1485720" cy="179064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000000"/>
                </a:solidFill>
                <a:latin typeface="Calibri"/>
              </a:rPr>
              <a:t>Quels animaux connaissez-vous? </a:t>
            </a:r>
            <a:endParaRPr b="0" lang="en-US" sz="2600" spc="-1" strike="noStrike">
              <a:solidFill>
                <a:srgbClr val="04617b"/>
              </a:solidFill>
              <a:latin typeface="Calibri"/>
            </a:endParaRPr>
          </a:p>
        </p:txBody>
      </p:sp>
      <p:pic>
        <p:nvPicPr>
          <p:cNvPr id="215" name="Content Placeholder 4" descr=""/>
          <p:cNvPicPr/>
          <p:nvPr/>
        </p:nvPicPr>
        <p:blipFill>
          <a:blip r:embed="rId1"/>
          <a:stretch/>
        </p:blipFill>
        <p:spPr>
          <a:xfrm>
            <a:off x="3565440" y="268200"/>
            <a:ext cx="5127840" cy="5864400"/>
          </a:xfrm>
          <a:prstGeom prst="rect">
            <a:avLst/>
          </a:prstGeom>
          <a:ln w="0">
            <a:noFill/>
          </a:ln>
        </p:spPr>
      </p:pic>
      <p:sp>
        <p:nvSpPr>
          <p:cNvPr id="216"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Aimons les animaux! </a:t>
            </a: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 Tu dis que tu aimes les fleurs et tu leur coupes la queue, tu dis que tu aimes les chiens et tu leur mets une laisse, tu dis que tu aimes les oiseaux et tu les mets en cage »</a:t>
            </a: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Jean Cocteau </a:t>
            </a:r>
            <a:endParaRPr b="0" lang="en-US" sz="1400" spc="-1" strike="noStrike">
              <a:solidFill>
                <a:srgbClr val="000000"/>
              </a:solidFill>
              <a:latin typeface="Constanti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324000" y="1639800"/>
            <a:ext cx="8173800" cy="4511880"/>
          </a:xfrm>
          <a:prstGeom prst="rect">
            <a:avLst/>
          </a:prstGeom>
          <a:ln w="0">
            <a:noFill/>
          </a:ln>
        </p:spPr>
      </p:pic>
      <p:sp>
        <p:nvSpPr>
          <p:cNvPr id="218" name="PlaceHolder 1"/>
          <p:cNvSpPr>
            <a:spLocks noGrp="1"/>
          </p:cNvSpPr>
          <p:nvPr>
            <p:ph/>
          </p:nvPr>
        </p:nvSpPr>
        <p:spPr>
          <a:xfrm>
            <a:off x="857160" y="571320"/>
            <a:ext cx="7772400" cy="571320"/>
          </a:xfrm>
          <a:prstGeom prst="rect">
            <a:avLst/>
          </a:prstGeom>
          <a:noFill/>
          <a:ln w="0">
            <a:noFill/>
          </a:ln>
        </p:spPr>
        <p:txBody>
          <a:bodyPr lIns="45720" rIns="4572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u="sng">
                <a:solidFill>
                  <a:srgbClr val="11014b"/>
                </a:solidFill>
                <a:uFillTx/>
                <a:latin typeface="Constantia"/>
              </a:rPr>
              <a:t>PEUX-TU DEVINER?</a:t>
            </a:r>
            <a:endParaRPr b="0" lang="en-US" sz="3200" spc="-1" strike="noStrike">
              <a:solidFill>
                <a:srgbClr val="ffffff"/>
              </a:solidFill>
              <a:latin typeface="Constanti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itle 1" descr=""/>
          <p:cNvPicPr/>
          <p:nvPr/>
        </p:nvPicPr>
        <p:blipFill>
          <a:blip r:embed="rId1"/>
          <a:stretch/>
        </p:blipFill>
        <p:spPr>
          <a:xfrm>
            <a:off x="244440" y="817560"/>
            <a:ext cx="8034480" cy="1882800"/>
          </a:xfrm>
          <a:prstGeom prst="rect">
            <a:avLst/>
          </a:prstGeom>
          <a:ln w="0">
            <a:noFill/>
          </a:ln>
        </p:spPr>
      </p:pic>
      <p:sp>
        <p:nvSpPr>
          <p:cNvPr id="220" name="PlaceHolder 1"/>
          <p:cNvSpPr>
            <a:spLocks noGrp="1"/>
          </p:cNvSpPr>
          <p:nvPr>
            <p:ph type="subTitle"/>
          </p:nvPr>
        </p:nvSpPr>
        <p:spPr>
          <a:xfrm>
            <a:off x="642600" y="3357360"/>
            <a:ext cx="7715160" cy="1785960"/>
          </a:xfrm>
          <a:prstGeom prst="rect">
            <a:avLst/>
          </a:prstGeom>
          <a:noFill/>
          <a:ln w="0">
            <a:noFill/>
          </a:ln>
        </p:spPr>
        <p:txBody>
          <a:bodyPr lIns="0" rIns="18360" tIns="46800" bIns="46800" anchor="t">
            <a:noAutofit/>
          </a:bodyPr>
          <a:p>
            <a:pPr>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 </a:t>
            </a:r>
            <a:r>
              <a:rPr b="1" lang="fr-CH" sz="2800" spc="-1" strike="noStrike">
                <a:solidFill>
                  <a:srgbClr val="000000"/>
                </a:solidFill>
                <a:latin typeface="Constantia"/>
              </a:rPr>
              <a:t>Je vis dans la forêt. Je mange de la viande. J'ai des petites oreilles et une belle queue.</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Qui suis-je?........................................</a:t>
            </a:r>
            <a:endParaRPr b="0" lang="en-US" sz="2800" spc="-1" strike="noStrike">
              <a:solidFill>
                <a:srgbClr val="ffffff"/>
              </a:solidFill>
              <a:latin typeface="Constantia"/>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457200" y="781200"/>
            <a:ext cx="8272440" cy="1919160"/>
          </a:xfrm>
          <a:prstGeom prst="rect">
            <a:avLst/>
          </a:prstGeom>
          <a:ln w="0">
            <a:noFill/>
          </a:ln>
        </p:spPr>
      </p:pic>
      <p:sp>
        <p:nvSpPr>
          <p:cNvPr id="222" name="PlaceHolder 1"/>
          <p:cNvSpPr>
            <a:spLocks noGrp="1"/>
          </p:cNvSpPr>
          <p:nvPr>
            <p:ph type="subTitle"/>
          </p:nvPr>
        </p:nvSpPr>
        <p:spPr>
          <a:xfrm>
            <a:off x="785880" y="3500280"/>
            <a:ext cx="7786800" cy="2138400"/>
          </a:xfrm>
          <a:prstGeom prst="rect">
            <a:avLst/>
          </a:prstGeom>
          <a:noFill/>
          <a:ln w="0">
            <a:noFill/>
          </a:ln>
        </p:spPr>
        <p:txBody>
          <a:bodyPr lIns="0" rIns="18360" tIns="46800" bIns="46800" anchor="t">
            <a:noAutofit/>
          </a:bodyPr>
          <a:p>
            <a:pPr>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c00000"/>
                </a:solidFill>
                <a:latin typeface="Constantia"/>
              </a:rPr>
              <a:t> </a:t>
            </a:r>
            <a:r>
              <a:rPr b="1" lang="fr-CH" sz="2800" spc="-1" strike="noStrike">
                <a:solidFill>
                  <a:srgbClr val="000000"/>
                </a:solidFill>
                <a:latin typeface="Constantia"/>
              </a:rPr>
              <a:t>Je suis le meilleur ami de l`homme. Je ne suis pas bon ami avec le chat. </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Qui suis-je?........................................</a:t>
            </a:r>
            <a:endParaRPr b="0" lang="en-US" sz="2800" spc="-1" strike="noStrike">
              <a:solidFill>
                <a:srgbClr val="ffffff"/>
              </a:solidFill>
              <a:latin typeface="Constanti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0T14:23:27Z</dcterms:created>
  <dc:creator>Flori</dc:creator>
  <dc:description/>
  <dc:language>en-US</dc:language>
  <cp:lastModifiedBy>Claudia</cp:lastModifiedBy>
  <dcterms:modified xsi:type="dcterms:W3CDTF">2010-05-30T16:56:23Z</dcterms:modified>
  <cp:revision>26</cp:revision>
  <dc:subject/>
  <dc:title>Slide 1</dc:title>
</cp:coreProperties>
</file>