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F24F-B702-4808-87A1-58777D2AA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39D1-91B2-44CF-AD92-AB67AC22201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99EC-8EB4-4905-9D02-AF2949AE4CBF}"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36FC-E8F6-470C-AFD0-5136F453D29F}"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F9C6-89D1-431E-A0E7-0A3EF5ECEEFB}"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98D5-0C57-4078-9006-1D047FEDD304}"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A1EB0-6CC2-428A-9D0D-37257208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C88A-26A0-43BF-8D48-30B37D53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F1F2C-62E4-4FE5-B06C-517F9924E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5FA81-367B-4D40-859F-B16B439F9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7667F-2853-4CF4-86B2-8ABB0253A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F552-72BC-492E-864B-5875313A2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1994D-6C4C-4232-8BE8-BBDD57A34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1F494-AE5B-413B-A910-E788ABF14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DFF41-121C-4AD0-B3C5-BE12196AE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788E1-F230-4133-BF80-822483BB0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80E4C-C859-499D-93B5-9AD26EEE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D2072-3000-40EB-A930-932E1D91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1CCD1-ED5C-4324-9EC4-46C59D82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FD87-2BED-4DD7-A895-A6E91E8B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B40B0-7707-4F17-88C6-F84300CA5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E7055-36B1-4621-9318-9A17F1E3E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9B4B2-0B15-4BBD-BBF6-1A41E17A5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D3DB4-2C4E-46C5-A178-3BC5106274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4E606-A7F8-4900-A556-29C414791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51923D-12DB-4D0B-A67F-47A4D9A90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D666A-E61C-4C91-9C8E-56712F332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BEF4A-42EA-4B04-B15B-F851EA0F9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F1044-7C20-49EB-B78A-8655A98F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50A50-BF9F-4E24-9976-BD192B3BE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F0911-E584-432F-A6F9-25D0A0702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3C1E6-2FEA-4A0D-A5AD-8B344C433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D4FD4-87DE-4B69-A91E-928EFC0DC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CE368-7246-4F0D-8CE1-C0B1CBFF0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0E53ED-3F0A-4133-A675-8D99753FE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FC2155-6DAE-498F-BE23-2D2132E8F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F5D25-B4FC-4862-B9B7-DF70895BB5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6D700-29D6-4BC8-A214-F7CEB3598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6D201-30C8-49AD-9AE0-AE1900BFF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2366-B7C1-48CE-AD4E-81A5F230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13660-AA2B-4CEE-99DB-AD8399712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F6E5B-1429-4852-8AD7-BAF572B25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8C4F5-21B7-428A-8A01-C9964457B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52C71-0A80-4843-9570-B63CBCB55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43210-F9BC-420B-8AE7-3CAB88D89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050BD-9CFC-4B93-9423-D11D5C5DF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1540E-CB58-43FA-9A9F-F9523E950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0E7CA-D721-455F-A650-C845D63A8A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003824-00D0-4746-920C-00052AAC9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0B5EF-B4B3-46A2-A183-2FE55B5B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7674-DF7F-441E-8FAB-4047A2E6F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1C6D-C45E-42C2-A91D-C360CE8F6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B55F-AE2D-4720-9990-62254EF4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4764-7703-435F-B436-068FDDA37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418-A65F-4521-9EA9-0E96226C220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736E-4DDA-4522-9B7E-03720E93CCF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3"/>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B12B-C181-43ED-B314-2C76582DB05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7e2a"/>
            </a:gs>
            <a:gs pos="100000">
              <a:srgbClr val="156b13"/>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3"/>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6EBF-FACA-43A1-B508-78C158768B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52320" y="920880"/>
            <a:ext cx="8388360" cy="153648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2060"/>
                </a:solidFill>
                <a:uFillTx/>
                <a:latin typeface="Constantia"/>
              </a:rPr>
              <a:t>Prof. ROSOGA ANCA IONELA </a:t>
            </a:r>
            <a:endParaRPr b="0" lang="en-US" sz="2400" spc="-1" strike="noStrike">
              <a:solidFill>
                <a:srgbClr val="ffffff"/>
              </a:solidFill>
              <a:latin typeface="Constantia"/>
            </a:endParaRPr>
          </a:p>
        </p:txBody>
      </p:sp>
      <p:pic>
        <p:nvPicPr>
          <p:cNvPr id="213" name="Picture 2" descr=""/>
          <p:cNvPicPr/>
          <p:nvPr/>
        </p:nvPicPr>
        <p:blipFill>
          <a:blip r:embed="rId2"/>
          <a:stretch/>
        </p:blipFill>
        <p:spPr>
          <a:xfrm>
            <a:off x="1571760" y="3714840"/>
            <a:ext cx="1485720" cy="1790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a:solidFill>
                  <a:srgbClr val="000000"/>
                </a:solidFill>
                <a:latin typeface="Calibri"/>
              </a:rPr>
              <a:t>Quels animaux connaissez-vous? </a:t>
            </a:r>
            <a:endParaRPr b="0" lang="en-US" sz="2600" spc="-1" strike="noStrike">
              <a:solidFill>
                <a:srgbClr val="04617b"/>
              </a:solidFill>
              <a:latin typeface="Calibri"/>
            </a:endParaRPr>
          </a:p>
        </p:txBody>
      </p:sp>
      <p:pic>
        <p:nvPicPr>
          <p:cNvPr id="215" name="Content Placeholder 4" descr=""/>
          <p:cNvPicPr/>
          <p:nvPr/>
        </p:nvPicPr>
        <p:blipFill>
          <a:blip r:embed="rId1"/>
          <a:stretch/>
        </p:blipFill>
        <p:spPr>
          <a:xfrm>
            <a:off x="3565440" y="268200"/>
            <a:ext cx="5127840" cy="5864400"/>
          </a:xfrm>
          <a:prstGeom prst="rect">
            <a:avLst/>
          </a:prstGeom>
          <a:ln w="0">
            <a:noFill/>
          </a:ln>
        </p:spPr>
      </p:pic>
      <p:sp>
        <p:nvSpPr>
          <p:cNvPr id="216"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Aimons les animaux!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 Tu dis que tu aimes les fleurs et tu leur coupes la queue, tu dis que tu aimes les chiens et tu leur mets une laisse, tu dis que tu aimes les oiseaux et tu les mets en cage »</a:t>
            </a: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Constantia"/>
              </a:rPr>
              <a:t>Jean Cocteau </a:t>
            </a:r>
            <a:endParaRPr b="0" lang="en-US" sz="1400" spc="-1" strike="noStrike">
              <a:solidFill>
                <a:srgbClr val="000000"/>
              </a:solidFill>
              <a:latin typeface="Constanti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324000" y="1639800"/>
            <a:ext cx="8173800" cy="4511880"/>
          </a:xfrm>
          <a:prstGeom prst="rect">
            <a:avLst/>
          </a:prstGeom>
          <a:ln w="0">
            <a:noFill/>
          </a:ln>
        </p:spPr>
      </p:pic>
      <p:sp>
        <p:nvSpPr>
          <p:cNvPr id="218" name="PlaceHolder 1"/>
          <p:cNvSpPr>
            <a:spLocks noGrp="1"/>
          </p:cNvSpPr>
          <p:nvPr>
            <p:ph/>
          </p:nvPr>
        </p:nvSpPr>
        <p:spPr>
          <a:xfrm>
            <a:off x="857160" y="571320"/>
            <a:ext cx="7772400" cy="571320"/>
          </a:xfrm>
          <a:prstGeom prst="rect">
            <a:avLst/>
          </a:prstGeom>
          <a:noFill/>
          <a:ln w="0">
            <a:noFill/>
          </a:ln>
        </p:spPr>
        <p:txBody>
          <a:bodyPr lIns="45720" rIns="4572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200" spc="-1" strike="noStrike" u="sng">
                <a:solidFill>
                  <a:srgbClr val="11014b"/>
                </a:solidFill>
                <a:uFillTx/>
                <a:latin typeface="Constantia"/>
              </a:rPr>
              <a:t>PEUX-TU DEVINER?</a:t>
            </a:r>
            <a:endParaRPr b="0" lang="en-US" sz="3200" spc="-1" strike="noStrike">
              <a:solidFill>
                <a:srgbClr val="ffffff"/>
              </a:solidFill>
              <a:latin typeface="Constanti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244440" y="817560"/>
            <a:ext cx="8034480" cy="1882800"/>
          </a:xfrm>
          <a:prstGeom prst="rect">
            <a:avLst/>
          </a:prstGeom>
          <a:ln w="0">
            <a:noFill/>
          </a:ln>
        </p:spPr>
      </p:pic>
      <p:sp>
        <p:nvSpPr>
          <p:cNvPr id="220" name="PlaceHolder 1"/>
          <p:cNvSpPr>
            <a:spLocks noGrp="1"/>
          </p:cNvSpPr>
          <p:nvPr>
            <p:ph type="subTitle"/>
          </p:nvPr>
        </p:nvSpPr>
        <p:spPr>
          <a:xfrm>
            <a:off x="642600" y="3357360"/>
            <a:ext cx="7715160" cy="178596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 </a:t>
            </a:r>
            <a:r>
              <a:rPr b="1" lang="fr-CH" sz="2800" spc="-1" strike="noStrike">
                <a:solidFill>
                  <a:srgbClr val="000000"/>
                </a:solidFill>
                <a:latin typeface="Constantia"/>
              </a:rPr>
              <a:t>Je vis dans la forêt. Je mange de la viande. J'ai des petites oreilles et une belle queue.</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7200" y="781200"/>
            <a:ext cx="8272440" cy="1919160"/>
          </a:xfrm>
          <a:prstGeom prst="rect">
            <a:avLst/>
          </a:prstGeom>
          <a:ln w="0">
            <a:noFill/>
          </a:ln>
        </p:spPr>
      </p:pic>
      <p:sp>
        <p:nvSpPr>
          <p:cNvPr id="222" name="PlaceHolder 1"/>
          <p:cNvSpPr>
            <a:spLocks noGrp="1"/>
          </p:cNvSpPr>
          <p:nvPr>
            <p:ph type="subTitle"/>
          </p:nvPr>
        </p:nvSpPr>
        <p:spPr>
          <a:xfrm>
            <a:off x="785880" y="3500280"/>
            <a:ext cx="7786800" cy="2138400"/>
          </a:xfrm>
          <a:prstGeom prst="rect">
            <a:avLst/>
          </a:prstGeom>
          <a:noFill/>
          <a:ln w="0">
            <a:noFill/>
          </a:ln>
        </p:spPr>
        <p:txBody>
          <a:bodyPr lIns="0" rIns="18360" tIns="46800" bIns="46800" anchor="t">
            <a:noAutofit/>
          </a:bodyPr>
          <a:p>
            <a:pPr>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c00000"/>
                </a:solidFill>
                <a:latin typeface="Constantia"/>
              </a:rPr>
              <a:t> </a:t>
            </a:r>
            <a:r>
              <a:rPr b="1" lang="fr-CH" sz="2800" spc="-1" strike="noStrike">
                <a:solidFill>
                  <a:srgbClr val="000000"/>
                </a:solidFill>
                <a:latin typeface="Constantia"/>
              </a:rPr>
              <a:t>Je suis le meilleur ami de l`homme. Je ne suis pas bon ami avec le chat. </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0000"/>
                </a:solidFill>
                <a:latin typeface="Constantia"/>
              </a:rPr>
              <a:t>Qui suis-je?........................................</a:t>
            </a:r>
            <a:endParaRPr b="0" lang="en-US" sz="2800" spc="-1" strike="noStrike">
              <a:solidFill>
                <a:srgbClr val="ffffff"/>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4:23:27Z</dcterms:created>
  <dc:creator>Flori</dc:creator>
  <dc:description/>
  <dc:language>en-US</dc:language>
  <cp:lastModifiedBy>Claudia</cp:lastModifiedBy>
  <dcterms:modified xsi:type="dcterms:W3CDTF">2010-05-30T16:56:23Z</dcterms:modified>
  <cp:revision>26</cp:revision>
  <dc:subject/>
  <dc:title>Slide 1</dc:title>
</cp:coreProperties>
</file>