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4F5-168B-472D-A0AD-003AABE21650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CE4-80BF-4C27-8DC8-520242FA466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3FE2-2007-4FC7-91C6-0F02BFE4ED04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850-E339-45DA-9C57-9E8FA39B3F83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C2B9-B203-4FDF-91A9-A772149C435D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43A-012E-42BE-A81F-37C5718C1CB6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FCE-8910-4DCB-AA67-03FF8F771B18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EA0-45FA-4ECE-9F40-8C26949DD669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F1E1-A8C5-47EC-98A9-92C020A8554E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7029-B194-4281-951E-DB920A0C2C6D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185-9159-471F-85D3-832E6E4E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01A-A946-4F62-8A25-BA08C032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038-8D7A-4E09-9E21-0B9D1661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619-706C-46F0-8489-B6294956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80E-FD1A-4AA6-A21B-24276FCB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FC9B-9098-4F4C-80F2-C886E89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48FE-2590-46D0-9770-3C6F183F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DFF-9A71-4E33-99E3-40E7C060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C1EE-2940-4535-AE4E-4FCE97D5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FB3-5E22-46B4-B335-9EFBEA0E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6B85-474B-4718-A183-D266157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554-5E0E-4202-92E7-366445D3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F16F-823C-4A66-A31C-5243BDB5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B09-73BE-4A77-A571-1DBE746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79FB-BA0F-4D2F-89D7-B1650C99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73F-BE24-4A43-AFE1-0A41ADDE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3700-4CB5-4B45-91CC-89A9DFE6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183-D99D-4C51-8E39-5C62593F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C99-560D-4642-8B62-6D1CE44E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C88-8219-4DED-B075-89C093A7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E76-47C1-40AA-9CBE-04D56D90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7E5-4942-48E3-80AB-B538E68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6BA-2FC0-4AE0-85BF-F23BB05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F9D-1D42-472F-86FA-EE71A710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32D0-A4C6-4F11-95AE-5205F6264BBB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1ff4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A30-E6FD-4244-BA3C-CBD61C66A960}" type="slidenum">
              <a:rPr b="0" lang="ro-RO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ro-RO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07" name="Oval 5" descr=""/>
          <p:cNvPicPr/>
          <p:nvPr/>
        </p:nvPicPr>
        <p:blipFill>
          <a:blip r:embed="rId1"/>
          <a:stretch/>
        </p:blipFill>
        <p:spPr>
          <a:xfrm>
            <a:off x="596880" y="3621240"/>
            <a:ext cx="41274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000000"/>
                </a:solidFill>
                <a:latin typeface="Arial Unicode MS"/>
              </a:rPr>
              <a:t>Cum ar fi via</a:t>
            </a:r>
            <a:r>
              <a:rPr b="1" i="1" lang="ro-RO" sz="4400" spc="-1" strike="noStrike">
                <a:solidFill>
                  <a:srgbClr val="000000"/>
                </a:solidFill>
                <a:latin typeface="Arial Unicode MS"/>
              </a:rPr>
              <a:t>ţa noastră fără animale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“</a:t>
            </a: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Les animaux sont d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mis tellement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gréables - ils 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posent jamais d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questions, ils ne fon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ucune critique</a:t>
            </a:r>
            <a:r>
              <a:rPr b="1" lang="ro-RO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”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George Elio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6386400" y="2643120"/>
            <a:ext cx="16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514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0440" y="1341000"/>
            <a:ext cx="3344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-tu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imes-tu faire des promenades dans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e0ff84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ANS CETTE UNITÉ ON VA DEVENIR LES AMIS DES ANIMAUX.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ON VA ÉTUDIER ENSEMBL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E LA FORÊT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OMESTIQUES 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ÉLÉMENTS CARACTÉRISTIQUES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U PAYSAGE RURAL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 u="sng">
                <a:solidFill>
                  <a:srgbClr val="006600"/>
                </a:solidFill>
                <a:uFillTx/>
                <a:latin typeface="Arial"/>
              </a:rPr>
              <a:t>Pourquoi aimes-tu les animaux?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715080" y="3643200"/>
            <a:ext cx="1614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est le meilleur ami de l’homme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CH" sz="2800" spc="-1" strike="noStrike">
                <a:solidFill>
                  <a:srgbClr val="008000"/>
                </a:solidFill>
                <a:latin typeface="Arial Black"/>
                <a:ea typeface="Arial"/>
              </a:rPr>
              <a:t>Tu rêves aux vacances? Quels sont tes souvenirs?</a:t>
            </a:r>
            <a:endParaRPr b="1" lang="en-US" sz="28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48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Choisis la réponse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les vacances d’ét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nourri les animaux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e me suis promené dans le bo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aidé mes grands-parent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amassé des champignon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encontré mes am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46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6" name="Line 47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28" name="Picture 17" descr="vive-les-vacances-campagne-1"/>
          <p:cNvPicPr/>
          <p:nvPr/>
        </p:nvPicPr>
        <p:blipFill>
          <a:blip r:embed="rId3"/>
          <a:stretch/>
        </p:blipFill>
        <p:spPr>
          <a:xfrm rot="21385200">
            <a:off x="6066000" y="2219400"/>
            <a:ext cx="2651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Black"/>
              </a:rPr>
              <a:t>Comment raconter des événements passés? </a:t>
            </a:r>
            <a:endParaRPr b="1" lang="en-US" sz="2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192888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 va apprendre ensemble!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ègle: </a:t>
            </a: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l’auxiliaire « avoir » + participe passé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J’ai mang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Tu as dessin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Vous avez travaill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19432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1800" y="2428560"/>
            <a:ext cx="76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ÉCRIS UNE LETTRE CHAQUE SEMAIN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NOUS AVONS MANGÉ DES CERISE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DESSINÉ LES ANIMAUX DE LA FERM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ILS ONT DANSÉ À LA FÊT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ELLE A VOULU ALLER EN EXCURSION. 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VOUS AVEZ BU DU JUS DE FRUIT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J’AI VOULU T’AIDER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FAIT UNE PROMENADE.  </a:t>
            </a:r>
            <a:br>
              <a:rPr sz="2000"/>
            </a:br>
            <a:br>
              <a:rPr sz="2000"/>
            </a:br>
            <a:r>
              <a:rPr b="1" lang="fr-CH" sz="2000" spc="-1" strike="noStrike">
                <a:solidFill>
                  <a:srgbClr val="006600"/>
                </a:solidFill>
                <a:latin typeface="Arial Black"/>
              </a:rPr>
              <a:t>POUR APPRENDRE PLUS DE CHOSES JE VOUS INVITE SUR LA PAGE WIKI DE VOTRE CLASSE: </a:t>
            </a:r>
            <a:r>
              <a:rPr b="1" lang="fr-CH" sz="1600" spc="-1" strike="noStrike">
                <a:solidFill>
                  <a:srgbClr val="c00000"/>
                </a:solidFill>
                <a:latin typeface="Arial Black"/>
              </a:rPr>
              <a:t>HTTP://LES-ECUREUILS-ECOLE-TUGLUI.WIKISPACES.COM/</a:t>
            </a:r>
            <a:br>
              <a:rPr sz="1600"/>
            </a:br>
            <a:br>
              <a:rPr sz="1600"/>
            </a:br>
            <a:br>
              <a:rPr sz="2000"/>
            </a:br>
            <a:endParaRPr b="1" lang="en-US" sz="16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6600"/>
                </a:solidFill>
                <a:uFillTx/>
                <a:latin typeface="Arial"/>
              </a:rPr>
              <a:t>Maintenent c’est votre tour! Reconnaissez les verbes au passé compos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6600"/>
                </a:solidFill>
                <a:latin typeface="Arial Black"/>
              </a:rPr>
              <a:t>BON COURAGE!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98960" y="3105000"/>
            <a:ext cx="2401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laudia</cp:lastModifiedBy>
  <dcterms:modified xsi:type="dcterms:W3CDTF">2010-05-31T20:48:51Z</dcterms:modified>
  <cp:revision>26</cp:revision>
  <dc:subject/>
  <dc:title>QUI A PEUR DES ÉCUREUILS?</dc:title>
</cp:coreProperties>
</file>