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681E-3007-4C08-B363-9B75FA50CE8E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D83-B614-4D32-949F-FD477B656E76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7257-250C-426B-BDE5-1A22D1AB0C43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14F-BDFA-4BC1-BBC0-51F5F157609E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C37F-08CC-43E5-BDE7-1D1DA67AEA13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7A9-7534-4A2B-8FD7-7CF5834B3EDB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F65-0C78-4425-8120-C06F2B17C266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76CC-CCEA-45CE-876E-0F31AEE2AC1A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8142-FE68-4684-8AC9-0E89D47595A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11B6-2D18-4FEF-B859-FDB225AA11D3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985-FE13-4ACF-A041-0D94D00F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CA4-57F4-4863-B249-8716B7D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4B9-8A68-4D3E-9D18-0D66A96A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CA9-B867-4BBA-AC9D-4807726E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6442-1D13-44F1-A1DC-B111F6AD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F049-7AFC-434F-B3B4-5EEA0137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A93-5E45-47AE-94D8-4FA593B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7D38-7350-4C11-BE3F-E2D82F2D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762D-4461-4596-84C3-D3E7A474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5883-69B4-4F49-95CF-ABD29407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67F4-1BEA-4227-A978-ED2100F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2E5-D420-4A04-9D5C-B268593A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8016-154F-461F-B894-ACC10B9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0507-7F77-48C6-8DE2-D31CA98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82A-6FBB-4C9E-84E2-52BD2412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11CF-52AC-448B-86F2-661C52EE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672E-DD28-4932-9A4A-78A93F05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F35-05AA-4A4E-8452-CBAE5453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3DA-9D27-4D0D-8E1E-69EFEF22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E98-CD99-46C4-9FAC-D6403744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B69-D526-4024-9530-B07EA684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04B-B3C2-4F5A-A7FF-3F71CFF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4DE-EBA5-42AC-8907-4262178F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6D7-C9F1-4F39-8B2D-D9D13562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1B41-D6E5-4E79-8141-F201DE613FE8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1ff4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8A2-F0AF-42BB-ACB6-7CF1D70B4F74}" type="slidenum">
              <a:rPr b="0" lang="ro-RO" sz="1400" spc="-1" strike="noStrike">
                <a:solidFill>
                  <a:srgbClr val="66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ro-RO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07" name="Oval 5" descr=""/>
          <p:cNvPicPr/>
          <p:nvPr/>
        </p:nvPicPr>
        <p:blipFill>
          <a:blip r:embed="rId1"/>
          <a:stretch/>
        </p:blipFill>
        <p:spPr>
          <a:xfrm>
            <a:off x="596880" y="3621240"/>
            <a:ext cx="412740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000000"/>
                </a:solidFill>
                <a:latin typeface="Arial Unicode MS"/>
              </a:rPr>
              <a:t>Cum ar fi via</a:t>
            </a:r>
            <a:r>
              <a:rPr b="1" i="1" lang="ro-RO" sz="4400" spc="-1" strike="noStrike">
                <a:solidFill>
                  <a:srgbClr val="000000"/>
                </a:solidFill>
                <a:latin typeface="Arial Unicode MS"/>
              </a:rPr>
              <a:t>ţa noastră fără animale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“</a:t>
            </a: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Les animaux sont d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mis tellement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gréables - ils 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posent jamais d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questions, ils ne fon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ucune critique</a:t>
            </a:r>
            <a:r>
              <a:rPr b="1" lang="ro-RO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”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George Elio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6386400" y="2643120"/>
            <a:ext cx="16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500120"/>
            <a:ext cx="5143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0440" y="1341000"/>
            <a:ext cx="3344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-tu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imes-tu faire des promenades dans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e0ff84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192852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ANS CETTE UNITÉ ON VA DEVENIR LES AMIS DES ANIMAUX.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ON VA ÉTUDIER ENSEMBLE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E LA FORÊT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OMESTIQUES 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ÉLÉMENTS CARACTÉRISTIQUES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U PAYSAGE RURAL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 u="sng">
                <a:solidFill>
                  <a:srgbClr val="006600"/>
                </a:solidFill>
                <a:uFillTx/>
                <a:latin typeface="Arial"/>
              </a:rPr>
              <a:t>Pourquoi aimes-tu les animaux?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715080" y="3643200"/>
            <a:ext cx="1614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est le meilleur ami de l’homme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CH" sz="2800" spc="-1" strike="noStrike">
                <a:solidFill>
                  <a:srgbClr val="008000"/>
                </a:solidFill>
                <a:latin typeface="Arial Black"/>
                <a:ea typeface="Arial"/>
              </a:rPr>
              <a:t>Tu rêves aux vacances? Quels sont tes souvenirs?</a:t>
            </a:r>
            <a:endParaRPr b="1" lang="en-US" sz="28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48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Choisis la réponse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ndant les vacances d’ét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nourri les animaux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e me suis promené dans le bo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aidé mes grands-parent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amassé des champignon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encontré mes am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46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6" name="Line 47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28" name="Picture 17" descr="vive-les-vacances-campagne-1"/>
          <p:cNvPicPr/>
          <p:nvPr/>
        </p:nvPicPr>
        <p:blipFill>
          <a:blip r:embed="rId3"/>
          <a:stretch/>
        </p:blipFill>
        <p:spPr>
          <a:xfrm rot="21385200">
            <a:off x="6066000" y="2219400"/>
            <a:ext cx="2651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Black"/>
              </a:rPr>
              <a:t>Comment raconter des événements passés? </a:t>
            </a:r>
            <a:endParaRPr b="1" lang="en-US" sz="2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360" y="192888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 va apprendre ensemble!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ègle: </a:t>
            </a: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l’auxiliaire « avoir » + participe passé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J’ai mang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Tu as dessin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Vous avez travaill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19432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1800" y="2428560"/>
            <a:ext cx="7635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ÉCRIS UNE LETTRE CHAQUE SEMAIN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NOUS AVONS MANGÉ DES CERISE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DESSINÉ LES ANIMAUX DE LA FERM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ILS ONT DANSÉ À LA FÊT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ELLE A VOULU ALLER EN EXCURSION. 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VOUS AVEZ BU DU JUS DE FRUIT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J’AI VOULU T’AIDER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FAIT UNE PROMENADE.  </a:t>
            </a:r>
            <a:br>
              <a:rPr sz="2000"/>
            </a:br>
            <a:br>
              <a:rPr sz="2000"/>
            </a:br>
            <a:r>
              <a:rPr b="1" lang="fr-CH" sz="2000" spc="-1" strike="noStrike">
                <a:solidFill>
                  <a:srgbClr val="006600"/>
                </a:solidFill>
                <a:latin typeface="Arial Black"/>
              </a:rPr>
              <a:t>POUR APPRENDRE PLUS DE CHOSES JE VOUS INVITE SUR LA PAGE WIKI DE VOTRE CLASSE: </a:t>
            </a:r>
            <a:r>
              <a:rPr b="1" lang="fr-CH" sz="1600" spc="-1" strike="noStrike">
                <a:solidFill>
                  <a:srgbClr val="c00000"/>
                </a:solidFill>
                <a:latin typeface="Arial Black"/>
              </a:rPr>
              <a:t>HTTP://LES-ECUREUILS-ECOLE-TUGLUI.WIKISPACES.COM/</a:t>
            </a:r>
            <a:br>
              <a:rPr sz="1600"/>
            </a:br>
            <a:br>
              <a:rPr sz="1600"/>
            </a:br>
            <a:br>
              <a:rPr sz="2000"/>
            </a:br>
            <a:endParaRPr b="1" lang="en-US" sz="16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6600"/>
                </a:solidFill>
                <a:uFillTx/>
                <a:latin typeface="Arial"/>
              </a:rPr>
              <a:t>Maintenent c’est votre tour! Reconnaissez les verbes au passé compos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6600"/>
                </a:solidFill>
                <a:latin typeface="Arial Black"/>
              </a:rPr>
              <a:t>BON COURAGE!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98960" y="3105000"/>
            <a:ext cx="2401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laudia</cp:lastModifiedBy>
  <dcterms:modified xsi:type="dcterms:W3CDTF">2010-05-31T20:48:51Z</dcterms:modified>
  <cp:revision>26</cp:revision>
  <dc:subject/>
  <dc:title>QUI A PEUR DES ÉCUREUILS?</dc:title>
</cp:coreProperties>
</file>