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F32-C123-427F-BE74-4B540AA0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D5D-5F26-4B3F-8E1A-C1C7993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711-9DB7-43E1-BF38-158D563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3B4-5ED5-4A3E-B101-90E0BA59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4B03-7BB0-43B0-9786-4C4987A2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F8B-1EE2-4B9B-9313-5889477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329-97FD-4AB8-A8DA-6E77C32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2F4F-06B0-4B62-9A00-6040CB1F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C278-2480-42C2-AC9B-47006E00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17F0-FBE9-40EA-8062-29BEB75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A86D-181E-4642-8251-F2C88A9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2DC-B523-4BD6-8F99-3A8B635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804-A450-4DCF-B5F8-8E5AC09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E974-F4DD-474F-81A9-48C0F49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27B7-9D4B-4118-A2DF-EE9B00D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4BA4-F480-43DA-B3F6-D37578B2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C66-B672-47D6-BB6D-125DD0DA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BA3-2FF1-4185-AE54-89CE80DB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B89-4543-400F-9BF3-5DE05F01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A70-738B-4506-9514-CDB12D60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C71-B8F1-4814-A90A-D8C23A3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85C-2DA7-4EF6-9763-45F3F02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227-D39D-4A0A-A46F-2EFD883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358-5B38-4A2C-B81F-2624163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3B79-D49B-4571-AC2F-D7CA0689084D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871-4222-45DC-9644-808A77C95A38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645000"/>
            <a:ext cx="4105080" cy="21603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n peut touj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trouver du rep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u sein de la natu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Unicode MS"/>
              </a:rPr>
              <a:t>Pourquoi sont-elles courtes, les grandes vacanc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Quelles sont vos activ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s pendant les vaca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 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 allez-vous pendant les vacanc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494800">
            <a:off x="1042560" y="2997360"/>
            <a:ext cx="34084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s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ffcc66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est le meilleur ami de l’hom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On va apprendre aussi 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à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 d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é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crire un paysage de la campagne</a:t>
            </a:r>
            <a:br>
              <a:rPr sz="2800"/>
            </a:br>
            <a:endParaRPr b="1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ous pouvez reconnaitre les formes de relief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14</cp:lastModifiedBy>
  <dcterms:modified xsi:type="dcterms:W3CDTF">2010-07-06T10:44:55Z</dcterms:modified>
  <cp:revision>10</cp:revision>
  <dc:subject/>
  <dc:title>QUI A PEUR DES ÉCUREUILS?</dc:title>
</cp:coreProperties>
</file>