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52C-D4BC-45D9-8FDA-6DBA7375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304-A37C-4FE9-BD78-4D1E2296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B47-3761-46AE-8CAC-EC9A8FD8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420-BD45-4A38-8050-86F83DC4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9C76-03D8-45D4-8DA6-2BEC95C6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3A27-1870-4BA4-8EE8-F09F81CB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4A4C-8A54-4D1B-93B0-6137312D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A48C-9EB8-48F5-848A-A90EEE58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0FC8-6A24-4FE1-93FA-E5F5A2A4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BDFB-A667-46D9-B23F-0AD5EFA9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5FB2-8383-4A31-9EEA-17BD146B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03E-F0BB-48F5-8C53-080806FE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0F8A-68B2-4BD9-8706-05FC6A05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214B-DCE5-42B4-92E7-CC4B1D10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238C-4AB9-435D-8EEF-5C3E7A11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9846-494B-439C-BCEE-6333AEC8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9B33-F879-4502-8D34-EF23E6E6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A80-E000-4CE6-BD89-AC4AF703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BF5-B27E-43D7-B2E9-7CED574B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607-7CC4-43E4-A356-67FA69DE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DBE-0FBB-4D3E-A423-26FB65D1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19E-56C4-4FE1-8032-E634E9A2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569-60C4-4E9D-90EE-4C4E0B9B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0BE-6FC1-4A5D-8451-5E92F9BA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1014-D848-41B6-A8EC-92C4EB5E378A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8101-B3BE-4A0D-AE9C-5F9B9927EF70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6000" spc="-1" strike="noStrike">
                <a:solidFill>
                  <a:srgbClr val="008000"/>
                </a:solidFill>
                <a:latin typeface="Comic Sans MS"/>
              </a:rPr>
              <a:t>QUI A PEUR DES 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É</a:t>
            </a:r>
            <a:r>
              <a:rPr b="1" i="1" lang="ro-RO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CUREUILS?</a:t>
            </a:r>
            <a:endParaRPr b="1" lang="en-US" sz="6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284720" y="4437000"/>
            <a:ext cx="401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Prof. ROŞOGA ANCA IONE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Şcoala cu clasele I-VIII Ţuglui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645000"/>
            <a:ext cx="4105080" cy="216036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n peut toujou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trouver du rep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au sein de la natur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6600"/>
                </a:solidFill>
                <a:latin typeface="Arial Unicode MS"/>
              </a:rPr>
              <a:t>Pourquoi sont-elles courtes, les grandes vacances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Quelles sont vos activi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s pendant les vacanc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 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ù</a:t>
            </a: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 allez-vous pendant les vacanc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20494800">
            <a:off x="1042560" y="2997360"/>
            <a:ext cx="340848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6600"/>
                </a:solidFill>
                <a:latin typeface="Arial Black"/>
              </a:rPr>
              <a:t>L’</a:t>
            </a: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é</a:t>
            </a:r>
            <a:r>
              <a:rPr b="1" lang="ro-RO" sz="4400" spc="-1" strike="noStrike">
                <a:solidFill>
                  <a:srgbClr val="cc6600"/>
                </a:solidFill>
                <a:latin typeface="Arial Black"/>
              </a:rPr>
              <a:t>cureuil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59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</a:rPr>
              <a:t>Dans le tronc d’un plat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</a:rPr>
              <a:t>Se cache une caba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</a:rPr>
              <a:t>Un petit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é</a:t>
            </a: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cureuil est assis sur le seui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Il mange des cer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Tricote une chemi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Attaque les noiset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Fait des gants, des chausset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24360" y="1341000"/>
            <a:ext cx="3121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vit l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ureui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Quels autres animaux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la 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 connaissez-vou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t les animaux domestiques? Tu en connai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03640" y="4941720"/>
          <a:ext cx="111420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941720"/>
                    <a:ext cx="1114200" cy="1114560"/>
                  </a:xfrm>
                  <a:prstGeom prst="rect">
                    <a:avLst/>
                  </a:prstGeom>
                  <a:ln cap="rnd" w="9360">
                    <a:solidFill>
                      <a:srgbClr val="ffcc66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6600"/>
                </a:solidFill>
                <a:latin typeface="Arial Black"/>
              </a:rPr>
              <a:t>Qui est fort en devinettes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4502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Qui chante 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l’aube pour nous 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veill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est le meilleur ami de l’hom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animal porte un pyjam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vec mon lait on fait du fromage. Je meugle dans le p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en regardant le train pass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8000"/>
                </a:solidFill>
                <a:latin typeface="Arial Black"/>
                <a:ea typeface="Arial"/>
              </a:rPr>
              <a:t>On va apprendre aussi </a:t>
            </a:r>
            <a:r>
              <a:rPr b="1" lang="en-US" sz="2800" spc="-1" strike="noStrike">
                <a:solidFill>
                  <a:srgbClr val="008000"/>
                </a:solidFill>
                <a:latin typeface="Arial Black"/>
                <a:ea typeface="Arial"/>
              </a:rPr>
              <a:t>à</a:t>
            </a:r>
            <a:r>
              <a:rPr b="1" lang="ro-RO" sz="2800" spc="-1" strike="noStrike">
                <a:solidFill>
                  <a:srgbClr val="008000"/>
                </a:solidFill>
                <a:latin typeface="Arial Black"/>
                <a:ea typeface="Arial"/>
              </a:rPr>
              <a:t> d</a:t>
            </a:r>
            <a:r>
              <a:rPr b="1" lang="en-US" sz="2800" spc="-1" strike="noStrike">
                <a:solidFill>
                  <a:srgbClr val="008000"/>
                </a:solidFill>
                <a:latin typeface="Arial Black"/>
                <a:ea typeface="Arial"/>
              </a:rPr>
              <a:t>é</a:t>
            </a:r>
            <a:r>
              <a:rPr b="1" lang="ro-RO" sz="2800" spc="-1" strike="noStrike">
                <a:solidFill>
                  <a:srgbClr val="008000"/>
                </a:solidFill>
                <a:latin typeface="Arial Black"/>
                <a:ea typeface="Arial"/>
              </a:rPr>
              <a:t>crire un paysage de la campagne</a:t>
            </a:r>
            <a:br>
              <a:rPr sz="2800"/>
            </a:br>
            <a:endParaRPr b="1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ous pouvez reconnaitre les formes de relief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935680" y="1905120"/>
          <a:ext cx="18907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5680" y="1905120"/>
                    <a:ext cx="18907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 flipV="1">
            <a:off x="6732720" y="2781000"/>
            <a:ext cx="360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451640" y="4292640"/>
            <a:ext cx="8654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651640" y="4149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64000" y="2781360"/>
            <a:ext cx="3313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7:59:14Z</dcterms:created>
  <dc:creator>C14</dc:creator>
  <dc:description/>
  <dc:language>en-US</dc:language>
  <cp:lastModifiedBy>C14</cp:lastModifiedBy>
  <dcterms:modified xsi:type="dcterms:W3CDTF">2010-07-06T10:44:55Z</dcterms:modified>
  <cp:revision>10</cp:revision>
  <dc:subject/>
  <dc:title>QUI A PEUR DES ÉCUREUILS?</dc:title>
</cp:coreProperties>
</file>