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wmf" ContentType="image/x-wmf"/>
  <Override PartName="/ppt/media/image4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A8C0-DCE2-4D55-B55D-D5ACF1BAA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C1C6-0A62-4CC2-AC06-A645CA274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B2EC-74F0-45AC-821D-52691ED4E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F906-41EC-40B4-BEED-724DC3BF9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47F9C-90AE-4328-8970-8021640E6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FE4AB-8B97-4971-B676-C53CAE345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38625-392D-49B7-AD2D-48396F389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C2516-1E03-40C1-8457-665B0FDD0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F07EC-FF74-45BD-9FFF-30E3CB946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28D5A-76D3-439D-8AED-3873AB040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5D992-5D7C-464A-8081-D2774AF7C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55FA-CDE2-42A6-A617-24914F608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3EAA8-C7B1-430C-B9EF-76504640F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EEF9E-20AE-45AA-8EB5-403F8586E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E5FA6-931E-413F-8BB3-7EC1D88B2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4621C-06F0-4501-9718-71B79D68C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0086F-A049-4096-9B75-676579393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548F-9290-4B6A-AEB8-197965D2B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6CD0-45E5-4EB4-BCAC-CE1EB838E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F266-0DD6-49E6-A707-96788EC2B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9684-FC0F-47A0-B1B5-A717142CF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8EB6-0211-4B40-9F6C-0A6991F60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1B2B-F4FC-4945-A3D2-741857E33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12A7-59EA-468D-9F0F-2D193C6D4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ff99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07c00"/>
                </a:gs>
                <a:gs pos="100000">
                  <a:srgbClr val="ff99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ea41e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fea41e"/>
                </a:gs>
                <a:gs pos="100000">
                  <a:srgbClr val="ff99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07c00"/>
                </a:gs>
                <a:gs pos="100000">
                  <a:srgbClr val="ff99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ea41e"/>
                </a:gs>
                <a:gs pos="100000">
                  <a:srgbClr val="ff99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31CA2-375B-4210-A751-B88C3CBB6643}" type="slidenum">
              <a:rPr b="0" lang="ro-RO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ff99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07c00"/>
                </a:gs>
                <a:gs pos="100000">
                  <a:srgbClr val="ff99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07c00"/>
                </a:gs>
                <a:gs pos="100000">
                  <a:srgbClr val="ff99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ea41e"/>
                </a:gs>
                <a:gs pos="100000">
                  <a:srgbClr val="ff99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ea41e"/>
                </a:gs>
                <a:gs pos="100000">
                  <a:srgbClr val="ff99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6600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AD0C7-AC69-4E69-8DB4-011353A798BE}" type="slidenum">
              <a:rPr b="0" lang="ro-RO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71640" y="1052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6000" spc="-1" strike="noStrike">
                <a:solidFill>
                  <a:srgbClr val="008000"/>
                </a:solidFill>
                <a:latin typeface="Comic Sans MS"/>
              </a:rPr>
              <a:t>QUI A PEUR DES </a:t>
            </a:r>
            <a:r>
              <a:rPr b="1" i="1" lang="en-US" sz="6000" spc="-1" strike="noStrike">
                <a:solidFill>
                  <a:srgbClr val="008000"/>
                </a:solidFill>
                <a:latin typeface="Comic Sans MS"/>
                <a:ea typeface="Arial"/>
              </a:rPr>
              <a:t>É</a:t>
            </a:r>
            <a:r>
              <a:rPr b="1" i="1" lang="ro-RO" sz="6000" spc="-1" strike="noStrike">
                <a:solidFill>
                  <a:srgbClr val="008000"/>
                </a:solidFill>
                <a:latin typeface="Comic Sans MS"/>
                <a:ea typeface="Arial"/>
              </a:rPr>
              <a:t>CUREUILS?</a:t>
            </a:r>
            <a:endParaRPr b="1" lang="en-US" sz="60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284720" y="4437000"/>
            <a:ext cx="4013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Prof. ROŞOGA ANCA IONEL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Şcoala cu clasele I-VIII Ţuglui</a:t>
            </a: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11280" y="3645000"/>
            <a:ext cx="4105080" cy="2160360"/>
          </a:xfrm>
          <a:prstGeom prst="ellipse">
            <a:avLst/>
          </a:prstGeom>
          <a:solidFill>
            <a:srgbClr val="f05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On peut toujour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trouver du repo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au sein de la nature</a:t>
            </a: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cc6600"/>
                </a:solidFill>
                <a:latin typeface="Arial Unicode MS"/>
              </a:rPr>
              <a:t>Pourquoi sont-elles courtes, les grandes vacances?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3366"/>
                </a:solidFill>
                <a:latin typeface="Arial"/>
              </a:rPr>
              <a:t>Quelles sont vos activit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é</a:t>
            </a:r>
            <a:r>
              <a:rPr b="0" lang="ro-RO" sz="2000" spc="-1" strike="noStrike">
                <a:solidFill>
                  <a:srgbClr val="003366"/>
                </a:solidFill>
                <a:latin typeface="Arial"/>
                <a:ea typeface="Arial"/>
              </a:rPr>
              <a:t>s pendant les vacance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8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3366"/>
                </a:solidFill>
                <a:latin typeface="Arial"/>
                <a:ea typeface="Arial"/>
              </a:rPr>
              <a:t>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8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3366"/>
                </a:solidFill>
                <a:latin typeface="Arial"/>
                <a:ea typeface="Arial"/>
              </a:rPr>
              <a:t>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8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3366"/>
                </a:solidFill>
                <a:latin typeface="Arial"/>
                <a:ea typeface="Arial"/>
              </a:rPr>
              <a:t>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3366"/>
                </a:solidFill>
                <a:latin typeface="Arial"/>
                <a:ea typeface="Arial"/>
              </a:rPr>
              <a:t>- O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ù</a:t>
            </a:r>
            <a:r>
              <a:rPr b="0" lang="ro-RO" sz="2000" spc="-1" strike="noStrike">
                <a:solidFill>
                  <a:srgbClr val="003366"/>
                </a:solidFill>
                <a:latin typeface="Arial"/>
                <a:ea typeface="Arial"/>
              </a:rPr>
              <a:t> allez-vous pendant les vacances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8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3366"/>
                </a:solidFill>
                <a:latin typeface="Arial"/>
                <a:ea typeface="Arial"/>
              </a:rPr>
              <a:t>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8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3366"/>
                </a:solidFill>
                <a:latin typeface="Arial"/>
                <a:ea typeface="Arial"/>
              </a:rPr>
              <a:t>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8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3366"/>
                </a:solidFill>
                <a:latin typeface="Arial"/>
                <a:ea typeface="Arial"/>
              </a:rPr>
              <a:t>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8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3366"/>
                </a:solidFill>
                <a:latin typeface="Arial"/>
                <a:ea typeface="Arial"/>
              </a:rPr>
              <a:t>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 rot="20494800">
            <a:off x="1042560" y="2997360"/>
            <a:ext cx="3408480" cy="25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cc6600"/>
                </a:solidFill>
                <a:latin typeface="Arial Black"/>
              </a:rPr>
              <a:t>L’</a:t>
            </a: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é</a:t>
            </a:r>
            <a:r>
              <a:rPr b="1" lang="ro-RO" sz="4400" spc="-1" strike="noStrike">
                <a:solidFill>
                  <a:srgbClr val="cc6600"/>
                </a:solidFill>
                <a:latin typeface="Arial Black"/>
              </a:rPr>
              <a:t>cureuil 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45975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000" spc="-1" strike="noStrike">
                <a:solidFill>
                  <a:srgbClr val="008000"/>
                </a:solidFill>
                <a:latin typeface="Arial"/>
              </a:rPr>
              <a:t>Dans le tronc d’un plata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000" spc="-1" strike="noStrike">
                <a:solidFill>
                  <a:srgbClr val="008000"/>
                </a:solidFill>
                <a:latin typeface="Arial"/>
              </a:rPr>
              <a:t>Se cache une caban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000" spc="-1" strike="noStrike">
                <a:solidFill>
                  <a:srgbClr val="008000"/>
                </a:solidFill>
                <a:latin typeface="Arial"/>
              </a:rPr>
              <a:t>Un petit </a:t>
            </a:r>
            <a:r>
              <a:rPr b="0" i="1" lang="en-US" sz="2000" spc="-1" strike="noStrike">
                <a:solidFill>
                  <a:srgbClr val="008000"/>
                </a:solidFill>
                <a:latin typeface="Arial"/>
                <a:ea typeface="Arial"/>
              </a:rPr>
              <a:t>é</a:t>
            </a:r>
            <a:r>
              <a:rPr b="0" i="1" lang="ro-RO" sz="2000" spc="-1" strike="noStrike">
                <a:solidFill>
                  <a:srgbClr val="008000"/>
                </a:solidFill>
                <a:latin typeface="Arial"/>
                <a:ea typeface="Arial"/>
              </a:rPr>
              <a:t>cureuil est assis sur le seuil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000" spc="-1" strike="noStrike">
                <a:solidFill>
                  <a:srgbClr val="008000"/>
                </a:solidFill>
                <a:latin typeface="Arial"/>
                <a:ea typeface="Arial"/>
              </a:rPr>
              <a:t>Il mange des ceri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000" spc="-1" strike="noStrike">
                <a:solidFill>
                  <a:srgbClr val="008000"/>
                </a:solidFill>
                <a:latin typeface="Arial"/>
                <a:ea typeface="Arial"/>
              </a:rPr>
              <a:t>Tricote une chemise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000" spc="-1" strike="noStrike">
                <a:solidFill>
                  <a:srgbClr val="008000"/>
                </a:solidFill>
                <a:latin typeface="Arial"/>
                <a:ea typeface="Arial"/>
              </a:rPr>
              <a:t>Attaque les noisett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000" spc="-1" strike="noStrike">
                <a:solidFill>
                  <a:srgbClr val="008000"/>
                </a:solidFill>
                <a:latin typeface="Arial"/>
                <a:ea typeface="Arial"/>
              </a:rPr>
              <a:t>Fait des gants, des chaussette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724360" y="1341000"/>
            <a:ext cx="31212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ù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 vit l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cureuil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Quels autres animaux 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la f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ê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t connaissez-vou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Et les animaux domestiques? Tu en connai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203640" y="4941720"/>
          <a:ext cx="1114200" cy="111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3640" y="4941720"/>
                    <a:ext cx="1114200" cy="1114560"/>
                  </a:xfrm>
                  <a:prstGeom prst="rect">
                    <a:avLst/>
                  </a:prstGeom>
                  <a:ln cap="rnd" w="9360">
                    <a:solidFill>
                      <a:srgbClr val="ffcc66"/>
                    </a:solidFill>
                    <a:custDash>
                      <a:ds d="100000" sp="1000"/>
                    </a:custDash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cc6600"/>
                </a:solidFill>
                <a:latin typeface="Arial Black"/>
              </a:rPr>
              <a:t>Qui est fort en devinettes?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94920" y="1484280"/>
            <a:ext cx="84502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Qui chante 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è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s l’aube pour nous 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veiller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  <a:ea typeface="Arial"/>
              </a:rPr>
              <a:t>…………………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Quel est le meilleur ami de l’homm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…………………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Quel animal porte un pyjama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……………………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Avec mon lait on fait du fromage. Je meugle dans le p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è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s en regardant le train passer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……………………………………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8000"/>
                </a:solidFill>
                <a:latin typeface="Arial Black"/>
                <a:ea typeface="Arial"/>
              </a:rPr>
              <a:t>On va apprendre aussi </a:t>
            </a:r>
            <a:r>
              <a:rPr b="1" lang="en-US" sz="2800" spc="-1" strike="noStrike">
                <a:solidFill>
                  <a:srgbClr val="008000"/>
                </a:solidFill>
                <a:latin typeface="Arial Black"/>
                <a:ea typeface="Arial"/>
              </a:rPr>
              <a:t>à</a:t>
            </a:r>
            <a:r>
              <a:rPr b="1" lang="ro-RO" sz="2800" spc="-1" strike="noStrike">
                <a:solidFill>
                  <a:srgbClr val="008000"/>
                </a:solidFill>
                <a:latin typeface="Arial Black"/>
                <a:ea typeface="Arial"/>
              </a:rPr>
              <a:t> d</a:t>
            </a:r>
            <a:r>
              <a:rPr b="1" lang="en-US" sz="2800" spc="-1" strike="noStrike">
                <a:solidFill>
                  <a:srgbClr val="008000"/>
                </a:solidFill>
                <a:latin typeface="Arial Black"/>
                <a:ea typeface="Arial"/>
              </a:rPr>
              <a:t>é</a:t>
            </a:r>
            <a:r>
              <a:rPr b="1" lang="ro-RO" sz="2800" spc="-1" strike="noStrike">
                <a:solidFill>
                  <a:srgbClr val="008000"/>
                </a:solidFill>
                <a:latin typeface="Arial Black"/>
                <a:ea typeface="Arial"/>
              </a:rPr>
              <a:t>crire un paysage de la campagne</a:t>
            </a:r>
            <a:br>
              <a:rPr sz="2800"/>
            </a:br>
            <a:endParaRPr b="1" lang="en-US" sz="28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Vous pouvez reconnaitre les formes de relief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5935680" y="1905120"/>
          <a:ext cx="1890720" cy="201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35680" y="1905120"/>
                    <a:ext cx="1890720" cy="20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"/>
          <p:cNvSpPr/>
          <p:nvPr/>
        </p:nvSpPr>
        <p:spPr>
          <a:xfrm flipV="1">
            <a:off x="6732720" y="2781000"/>
            <a:ext cx="36036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7451640" y="4292640"/>
            <a:ext cx="86544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5651640" y="4149720"/>
            <a:ext cx="504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5364000" y="2781360"/>
            <a:ext cx="331344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6T07:59:14Z</dcterms:created>
  <dc:creator>C14</dc:creator>
  <dc:description/>
  <dc:language>en-US</dc:language>
  <cp:lastModifiedBy>C14</cp:lastModifiedBy>
  <dcterms:modified xsi:type="dcterms:W3CDTF">2010-07-06T10:44:55Z</dcterms:modified>
  <cp:revision>10</cp:revision>
  <dc:subject/>
  <dc:title>QUI A PEUR DES ÉCUREUILS?</dc:title>
</cp:coreProperties>
</file>