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7170-215C-45EE-900F-283245B4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1BCF-D5C2-43E3-AD26-97404FF7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0B14-9633-465C-87BD-A811CAC45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A486-AC72-4E56-9D1D-097F49C46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FB56-1C93-4040-99BB-E5292092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E881-59EF-441A-B9D0-BB6842C7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4535-9419-49DD-B904-CE7BE511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4100-94F1-4D5B-AE24-8806E39A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7119-4A17-4998-9B9A-30A99705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5BC3-7F12-46E1-9D4B-9ABF5275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48C9-161A-468D-956C-2248E4F4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4D7B-40A1-4A40-B522-33B8D614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DF91-068B-44C4-95E5-E65026DB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4844-EDA1-426F-935F-ABFCCC9A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4B7F-7A29-4D26-BABD-EDA0B488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5B69-48FA-45CC-9DE7-A8F43BD2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45E3-BE89-4808-A94B-85B1D4256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116A-B7E0-4DEC-86D1-E7E1BFD8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BB2C-3E76-4084-B95C-1A834FA7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728B-D578-441F-883B-557C1BC1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216F-2E55-43C2-941F-CB414B29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3CC5-DD07-4751-ADBF-F5D416A5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BDFD-6A5C-4919-AEF8-9E6EA5BE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DCC6-2162-4265-A008-BE7659E0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E882-8FD7-4871-AE44-2EF52197529C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8395-FF90-4B47-BF0C-FDE663F5ED53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6000" spc="-1" strike="noStrike">
                <a:solidFill>
                  <a:srgbClr val="008000"/>
                </a:solidFill>
                <a:latin typeface="Comic Sans MS"/>
              </a:rPr>
              <a:t>QUI A PEUR DES </a:t>
            </a:r>
            <a:r>
              <a:rPr b="1" i="1" lang="en-US" sz="6000" spc="-1" strike="noStrike">
                <a:solidFill>
                  <a:srgbClr val="008000"/>
                </a:solidFill>
                <a:latin typeface="Comic Sans MS"/>
                <a:ea typeface="Arial"/>
              </a:rPr>
              <a:t>É</a:t>
            </a:r>
            <a:r>
              <a:rPr b="1" i="1" lang="ro-RO" sz="6000" spc="-1" strike="noStrike">
                <a:solidFill>
                  <a:srgbClr val="008000"/>
                </a:solidFill>
                <a:latin typeface="Comic Sans MS"/>
                <a:ea typeface="Arial"/>
              </a:rPr>
              <a:t>CUREUILS?</a:t>
            </a:r>
            <a:endParaRPr b="1" lang="en-US" sz="60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284720" y="4437000"/>
            <a:ext cx="4013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Prof. ROŞOGA ANCA IONEL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Şcoala cu clasele I-VIII Ţuglui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3645000"/>
            <a:ext cx="4105080" cy="2160360"/>
          </a:xfrm>
          <a:prstGeom prst="ellipse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On peut toujou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trouver du rep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au sein de la nature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cc6600"/>
                </a:solidFill>
                <a:latin typeface="Arial Unicode MS"/>
              </a:rPr>
              <a:t>Pourquoi sont-elles courtes, les grandes vacances?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Quelles sont vos activi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é</a:t>
            </a:r>
            <a:r>
              <a:rPr b="0" lang="ro-RO" sz="2000" spc="-1" strike="noStrike">
                <a:solidFill>
                  <a:srgbClr val="003366"/>
                </a:solidFill>
                <a:latin typeface="Arial"/>
                <a:ea typeface="Arial"/>
              </a:rPr>
              <a:t>s pendant les vacanc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  <a:ea typeface="Arial"/>
              </a:rPr>
              <a:t>- O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ù</a:t>
            </a:r>
            <a:r>
              <a:rPr b="0" lang="ro-RO" sz="2000" spc="-1" strike="noStrike">
                <a:solidFill>
                  <a:srgbClr val="003366"/>
                </a:solidFill>
                <a:latin typeface="Arial"/>
                <a:ea typeface="Arial"/>
              </a:rPr>
              <a:t> allez-vous pendant les vacanc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rot="20494800">
            <a:off x="1042560" y="2997360"/>
            <a:ext cx="340848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cc6600"/>
                </a:solidFill>
                <a:latin typeface="Arial Black"/>
              </a:rPr>
              <a:t>L’</a:t>
            </a: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é</a:t>
            </a:r>
            <a:r>
              <a:rPr b="1" lang="ro-RO" sz="4400" spc="-1" strike="noStrike">
                <a:solidFill>
                  <a:srgbClr val="cc6600"/>
                </a:solidFill>
                <a:latin typeface="Arial Black"/>
              </a:rPr>
              <a:t>cureuil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597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8000"/>
                </a:solidFill>
                <a:latin typeface="Arial"/>
              </a:rPr>
              <a:t>Dans le tronc d’un plata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8000"/>
                </a:solidFill>
                <a:latin typeface="Arial"/>
              </a:rPr>
              <a:t>Se cache une caba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8000"/>
                </a:solidFill>
                <a:latin typeface="Arial"/>
              </a:rPr>
              <a:t>Un petit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é</a:t>
            </a:r>
            <a:r>
              <a:rPr b="0" i="1" lang="ro-RO" sz="2000" spc="-1" strike="noStrike">
                <a:solidFill>
                  <a:srgbClr val="008000"/>
                </a:solidFill>
                <a:latin typeface="Arial"/>
                <a:ea typeface="Arial"/>
              </a:rPr>
              <a:t>cureuil est assis sur le seui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8000"/>
                </a:solidFill>
                <a:latin typeface="Arial"/>
                <a:ea typeface="Arial"/>
              </a:rPr>
              <a:t>Il mange des ceri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8000"/>
                </a:solidFill>
                <a:latin typeface="Arial"/>
                <a:ea typeface="Arial"/>
              </a:rPr>
              <a:t>Tricote une chemis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8000"/>
                </a:solidFill>
                <a:latin typeface="Arial"/>
                <a:ea typeface="Arial"/>
              </a:rPr>
              <a:t>Attaque les noisett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8000"/>
                </a:solidFill>
                <a:latin typeface="Arial"/>
                <a:ea typeface="Arial"/>
              </a:rPr>
              <a:t>Fait des gants, des chausset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724360" y="1341000"/>
            <a:ext cx="3121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vit l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cureui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Quels autres animaux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la f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t connaissez-vou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t les animaux domestiques? Tu en connai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203640" y="4941720"/>
          <a:ext cx="1114200" cy="11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4941720"/>
                    <a:ext cx="1114200" cy="1114560"/>
                  </a:xfrm>
                  <a:prstGeom prst="rect">
                    <a:avLst/>
                  </a:prstGeom>
                  <a:ln cap="rnd" w="9360">
                    <a:solidFill>
                      <a:srgbClr val="ffcc66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cc6600"/>
                </a:solidFill>
                <a:latin typeface="Arial Black"/>
              </a:rPr>
              <a:t>Qui est fort en devinettes?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4502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Qui chante 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s l’aube pour nous 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veill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Quel est le meilleur ami de l’hom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Quel animal porte un pyjam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Avec mon lait on fait du fromage. Je meugle dans le p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s en regardant le train pass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……………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8000"/>
                </a:solidFill>
                <a:latin typeface="Arial Black"/>
                <a:ea typeface="Arial"/>
              </a:rPr>
              <a:t>On va apprendre aussi </a:t>
            </a:r>
            <a:r>
              <a:rPr b="1" lang="en-US" sz="2800" spc="-1" strike="noStrike">
                <a:solidFill>
                  <a:srgbClr val="008000"/>
                </a:solidFill>
                <a:latin typeface="Arial Black"/>
                <a:ea typeface="Arial"/>
              </a:rPr>
              <a:t>à</a:t>
            </a:r>
            <a:r>
              <a:rPr b="1" lang="ro-RO" sz="2800" spc="-1" strike="noStrike">
                <a:solidFill>
                  <a:srgbClr val="008000"/>
                </a:solidFill>
                <a:latin typeface="Arial Black"/>
                <a:ea typeface="Arial"/>
              </a:rPr>
              <a:t> d</a:t>
            </a:r>
            <a:r>
              <a:rPr b="1" lang="en-US" sz="2800" spc="-1" strike="noStrike">
                <a:solidFill>
                  <a:srgbClr val="008000"/>
                </a:solidFill>
                <a:latin typeface="Arial Black"/>
                <a:ea typeface="Arial"/>
              </a:rPr>
              <a:t>é</a:t>
            </a:r>
            <a:r>
              <a:rPr b="1" lang="ro-RO" sz="2800" spc="-1" strike="noStrike">
                <a:solidFill>
                  <a:srgbClr val="008000"/>
                </a:solidFill>
                <a:latin typeface="Arial Black"/>
                <a:ea typeface="Arial"/>
              </a:rPr>
              <a:t>crire un paysage de la campagne</a:t>
            </a:r>
            <a:br>
              <a:rPr sz="2800"/>
            </a:br>
            <a:endParaRPr b="1" lang="en-US" sz="28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Vous pouvez reconnaitre les formes de relief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935680" y="1905120"/>
          <a:ext cx="1890720" cy="20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5680" y="1905120"/>
                    <a:ext cx="189072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 flipV="1">
            <a:off x="6732720" y="2781000"/>
            <a:ext cx="36036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451640" y="4292640"/>
            <a:ext cx="86544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651640" y="414972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364000" y="2781360"/>
            <a:ext cx="33134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07:59:14Z</dcterms:created>
  <dc:creator>C14</dc:creator>
  <dc:description/>
  <dc:language>en-US</dc:language>
  <cp:lastModifiedBy>C14</cp:lastModifiedBy>
  <dcterms:modified xsi:type="dcterms:W3CDTF">2010-07-06T10:44:55Z</dcterms:modified>
  <cp:revision>10</cp:revision>
  <dc:subject/>
  <dc:title>QUI A PEUR DES ÉCUREUILS?</dc:title>
</cp:coreProperties>
</file>