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ff9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B43E-BCD3-4CF0-9AB6-9BCDF832C2A9}" type="slidenum"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4667-0022-43EB-A03A-7EEC1AAF9D7A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D655-70DD-4131-9E16-D7ED78728E3C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F560-6B1B-4931-A24A-662CAD2E1C9A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543F-C532-4F8D-8EFF-AE3FD846DE4D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02B3-11FA-441C-8281-F25F0C992C62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BCC1-EF4D-4A3E-B886-522F1D5EBBA2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32CF-6D81-4C21-810D-C8DB8B4A3352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7A78-B7F1-4516-BF4A-C445D9F3A822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EF1B-50D1-4266-A02F-8D107EFACD11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95F0-323F-413B-B55B-977601E9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6CF3-0F10-4341-B6A9-FCA80B4B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6644-5F36-4B3F-8E21-32ECEF01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37F8-E173-4327-BB23-1650E919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BB7E-CD66-4034-8E1C-A8A3EB11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30E4-6310-4498-BD75-0E04CD10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7D14-DC2E-437B-9690-B410F53E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E0D8-2917-4FEC-981D-8B2BD5FF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485F-A8FB-4D06-AB94-4FCF0159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3C7B-B4DB-4094-9BEA-A2CD1148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9F93-F435-4E8F-B2BD-EF3AE5E5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BD52-A808-48AF-97B7-E6196247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2E02-1F5B-4615-A301-3F67F3B1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3E24-FBDF-42D5-8C63-E28ED3BB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7373-9888-4CB8-A5FE-AD63BE91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1E6F-996B-4031-AA7A-B1C1D255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E455-D1EB-4F5E-9385-16B49FA7C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27E2-129A-4E9D-AB7B-7EB5BF1C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7FF5-0A4E-4C26-AFD5-DE06CBD2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BD0C-D7F6-4220-87E2-873F30D4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D7E5-500C-4813-B2F5-9EF5B1FD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F93C-E575-40A3-87D4-7800F7FC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EFED-4470-4941-91E5-8D62F143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B8FA-FF65-448B-A9F5-3198C84B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f84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d1ff4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d1ff4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d1ff47">
                    <a:alpha val="0"/>
                  </a:srgbClr>
                </a:gs>
                <a:gs pos="100000">
                  <a:srgbClr val="abd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d7ff5d"/>
                </a:gs>
                <a:gs pos="100000">
                  <a:srgbClr val="d1ff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d7ff5d"/>
                </a:gs>
                <a:gs pos="100000">
                  <a:srgbClr val="d1ff4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d1ff47">
                    <a:alpha val="0"/>
                  </a:srgbClr>
                </a:gs>
                <a:gs pos="100000">
                  <a:srgbClr val="abd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d7ff5d"/>
                </a:gs>
                <a:gs pos="100000">
                  <a:srgbClr val="d1ff47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2133-6218-4125-818F-8B7C7DDE530F}" type="slidenum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ff9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f84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d1ff4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d1ff4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d1ff47">
                    <a:alpha val="0"/>
                  </a:srgbClr>
                </a:gs>
                <a:gs pos="100000">
                  <a:srgbClr val="abd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d1ff47">
                    <a:alpha val="0"/>
                  </a:srgbClr>
                </a:gs>
                <a:gs pos="100000">
                  <a:srgbClr val="abd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d7ff5d"/>
                </a:gs>
                <a:gs pos="100000">
                  <a:srgbClr val="d1ff4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d7ff5d"/>
                </a:gs>
                <a:gs pos="100000">
                  <a:srgbClr val="d1ff4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ff9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66ff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F409-9DCD-44C0-90AC-91385E1F255D}" type="slidenum">
              <a:rPr b="0" lang="ro-RO" sz="1400" spc="-1" strike="noStrike">
                <a:solidFill>
                  <a:srgbClr val="66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105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6000" spc="-1" strike="noStrike">
                <a:solidFill>
                  <a:srgbClr val="008000"/>
                </a:solidFill>
                <a:latin typeface="Comic Sans MS"/>
              </a:rPr>
              <a:t>QUI A PEUR DES </a:t>
            </a:r>
            <a:r>
              <a:rPr b="1" i="1" lang="en-US" sz="6000" spc="-1" strike="noStrike">
                <a:solidFill>
                  <a:srgbClr val="008000"/>
                </a:solidFill>
                <a:latin typeface="Comic Sans MS"/>
                <a:ea typeface="Arial"/>
              </a:rPr>
              <a:t>É</a:t>
            </a:r>
            <a:r>
              <a:rPr b="1" i="1" lang="ro-RO" sz="6000" spc="-1" strike="noStrike">
                <a:solidFill>
                  <a:srgbClr val="008000"/>
                </a:solidFill>
                <a:latin typeface="Comic Sans MS"/>
                <a:ea typeface="Arial"/>
              </a:rPr>
              <a:t>CUREUILS?</a:t>
            </a:r>
            <a:endParaRPr b="1" lang="en-US" sz="60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284720" y="4437000"/>
            <a:ext cx="40132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336699"/>
                </a:solidFill>
                <a:latin typeface="Arial"/>
              </a:rPr>
              <a:t>Prof. ROŞOGA ANCA IONELA</a:t>
            </a:r>
            <a:endParaRPr b="0" lang="en-US" sz="16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336699"/>
                </a:solidFill>
                <a:latin typeface="Arial"/>
              </a:rPr>
              <a:t>Şcoala cu clasele I-VIII Ţuglui</a:t>
            </a:r>
            <a:r>
              <a:rPr b="0" lang="ro-RO" sz="1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66ff66"/>
              </a:solidFill>
              <a:latin typeface="Arial"/>
            </a:endParaRPr>
          </a:p>
        </p:txBody>
      </p:sp>
      <p:pic>
        <p:nvPicPr>
          <p:cNvPr id="107" name="Oval 5" descr=""/>
          <p:cNvPicPr/>
          <p:nvPr/>
        </p:nvPicPr>
        <p:blipFill>
          <a:blip r:embed="rId1"/>
          <a:stretch/>
        </p:blipFill>
        <p:spPr>
          <a:xfrm>
            <a:off x="596880" y="3621240"/>
            <a:ext cx="4127400" cy="21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4400" spc="-1" strike="noStrike">
                <a:solidFill>
                  <a:srgbClr val="000000"/>
                </a:solidFill>
                <a:latin typeface="Arial Unicode MS"/>
              </a:rPr>
              <a:t>Cum ar fi via</a:t>
            </a:r>
            <a:r>
              <a:rPr b="1" i="1" lang="ro-RO" sz="4400" spc="-1" strike="noStrike">
                <a:solidFill>
                  <a:srgbClr val="000000"/>
                </a:solidFill>
                <a:latin typeface="Arial Unicode MS"/>
              </a:rPr>
              <a:t>ţa noastră fără animale?</a:t>
            </a: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stellar"/>
                <a:ea typeface="Aharoni"/>
              </a:rPr>
              <a:t>“</a:t>
            </a:r>
            <a:r>
              <a:rPr b="1" lang="fr-CH" sz="2000" spc="-1" strike="noStrike">
                <a:solidFill>
                  <a:srgbClr val="000000"/>
                </a:solidFill>
                <a:latin typeface="Copperplate Gothic Bold"/>
                <a:ea typeface="Aharoni"/>
              </a:rPr>
              <a:t>Les animaux sont des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Copperplate Gothic Bold"/>
                <a:ea typeface="Aharoni"/>
              </a:rPr>
              <a:t>amis tellement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Copperplate Gothic Bold"/>
                <a:ea typeface="Aharoni"/>
              </a:rPr>
              <a:t>agréables - ils ne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Copperplate Gothic Bold"/>
                <a:ea typeface="Aharoni"/>
              </a:rPr>
              <a:t>posent jamais de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Copperplate Gothic Bold"/>
                <a:ea typeface="Aharoni"/>
              </a:rPr>
              <a:t>questions, ils ne font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Copperplate Gothic Bold"/>
                <a:ea typeface="Aharoni"/>
              </a:rPr>
              <a:t>aucune critique</a:t>
            </a:r>
            <a:r>
              <a:rPr b="1" lang="ro-RO" sz="2000" spc="-1" strike="noStrike">
                <a:solidFill>
                  <a:srgbClr val="000000"/>
                </a:solidFill>
                <a:latin typeface="Copperplate Gothic Bold"/>
                <a:ea typeface="Aharoni"/>
              </a:rPr>
              <a:t>”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stellar"/>
                <a:ea typeface="Aharoni"/>
              </a:rPr>
              <a:t>                 </a:t>
            </a:r>
            <a:r>
              <a:rPr b="1" i="1" lang="ro-RO" sz="2000" spc="-1" strike="noStrike">
                <a:solidFill>
                  <a:srgbClr val="000000"/>
                </a:solidFill>
                <a:latin typeface="Castellar"/>
                <a:ea typeface="Aharoni"/>
              </a:rPr>
              <a:t>George Eliot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</p:txBody>
      </p:sp>
      <p:pic>
        <p:nvPicPr>
          <p:cNvPr id="110" name="Picture 24" descr=""/>
          <p:cNvPicPr/>
          <p:nvPr/>
        </p:nvPicPr>
        <p:blipFill>
          <a:blip r:embed="rId1"/>
          <a:stretch/>
        </p:blipFill>
        <p:spPr>
          <a:xfrm>
            <a:off x="6386400" y="2643120"/>
            <a:ext cx="161460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8000"/>
                </a:solidFill>
                <a:latin typeface="Arial Black"/>
              </a:rPr>
              <a:t>L’</a:t>
            </a: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é</a:t>
            </a:r>
            <a:r>
              <a:rPr b="1" lang="ro-RO" sz="4400" spc="-1" strike="noStrike">
                <a:solidFill>
                  <a:srgbClr val="008000"/>
                </a:solidFill>
                <a:latin typeface="Arial Black"/>
              </a:rPr>
              <a:t>cureuil </a:t>
            </a: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42600" y="1500120"/>
            <a:ext cx="514332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Dans le tronc d’un platane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Se cache une cabane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Un peti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cureuil est assis sur le seuil.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Il mange des cerises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Tricote une chemise.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Attaque les noisettes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Fait des gants, des chaussettes.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00440" y="1341000"/>
            <a:ext cx="33447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vit l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cureuil?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Quels autres animaux de la f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t connais-tu?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t les animaux domestiques? Tu en connais?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Aimes-tu faire des promenades dans la f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ê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t?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3203640" y="4941720"/>
          <a:ext cx="1114200" cy="11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4941720"/>
                    <a:ext cx="1114200" cy="1114560"/>
                  </a:xfrm>
                  <a:prstGeom prst="rect">
                    <a:avLst/>
                  </a:prstGeom>
                  <a:ln cap="rnd" w="9360">
                    <a:solidFill>
                      <a:srgbClr val="e0ff84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5880" y="1928520"/>
            <a:ext cx="777240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 Black"/>
              </a:rPr>
              <a:t>DANS CETTE UNITÉ ON VA DEVENIR LES AMIS DES ANIMAUX. </a:t>
            </a:r>
            <a:br>
              <a:rPr sz="2000"/>
            </a:b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 Black"/>
              </a:rPr>
              <a:t>ON VA ÉTUDIER ENSEMBLE </a:t>
            </a:r>
            <a:br>
              <a:rPr sz="2000"/>
            </a:b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r-CH" sz="2000" spc="-1" strike="noStrike">
                <a:solidFill>
                  <a:srgbClr val="000000"/>
                </a:solidFill>
                <a:latin typeface="Arial Black"/>
              </a:rPr>
              <a:t>LES ANIMAUX DE LA FORÊT</a:t>
            </a:r>
            <a:br>
              <a:rPr sz="2000"/>
            </a:b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r-CH" sz="2000" spc="-1" strike="noStrike">
                <a:solidFill>
                  <a:srgbClr val="000000"/>
                </a:solidFill>
                <a:latin typeface="Arial Black"/>
              </a:rPr>
              <a:t>LES ANIMAUX DOMESTIQUES  </a:t>
            </a:r>
            <a:br>
              <a:rPr sz="2000"/>
            </a:b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r-CH" sz="2000" spc="-1" strike="noStrike">
                <a:solidFill>
                  <a:srgbClr val="000000"/>
                </a:solidFill>
                <a:latin typeface="Arial Black"/>
              </a:rPr>
              <a:t>LES ÉLÉMENTS CARACTÉRISTIQUES </a:t>
            </a:r>
            <a:br>
              <a:rPr sz="2000"/>
            </a:br>
            <a:r>
              <a:rPr b="0" lang="fr-CH" sz="2000" spc="-1" strike="noStrike">
                <a:solidFill>
                  <a:srgbClr val="000000"/>
                </a:solidFill>
                <a:latin typeface="Arial Black"/>
              </a:rPr>
              <a:t>DU PAYSAGE RURAL</a:t>
            </a:r>
            <a:br>
              <a:rPr sz="2000"/>
            </a:br>
            <a:br>
              <a:rPr sz="2400"/>
            </a:br>
            <a:endParaRPr b="1" lang="en-US" sz="20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85880" y="64260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 u="sng">
                <a:solidFill>
                  <a:srgbClr val="006600"/>
                </a:solidFill>
                <a:uFillTx/>
                <a:latin typeface="Arial"/>
              </a:rPr>
              <a:t>Pourquoi aimes-tu les animaux?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6715080" y="3643200"/>
            <a:ext cx="16146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 Black"/>
              </a:rPr>
              <a:t>Qui est fort en devinettes?</a:t>
            </a: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4502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Qui chante 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s l’aube pour nous 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veiller?</a:t>
            </a: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Quel animal est le meilleur ami de l’homme?</a:t>
            </a: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</a:t>
            </a: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Quel animal porte un pyjama?</a:t>
            </a: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</a:t>
            </a: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Avec mon lait on fait du fromage. Je meugle dans le p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s en regardant le train passer. </a:t>
            </a: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……………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CH" sz="2800" spc="-1" strike="noStrike">
                <a:solidFill>
                  <a:srgbClr val="008000"/>
                </a:solidFill>
                <a:latin typeface="Arial Black"/>
                <a:ea typeface="Arial"/>
              </a:rPr>
              <a:t>Tu rêves aux vacances? Quels sont tes souvenirs?</a:t>
            </a:r>
            <a:endParaRPr b="1" lang="en-US" sz="28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49482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 u="sng">
                <a:solidFill>
                  <a:srgbClr val="000000"/>
                </a:solidFill>
                <a:uFillTx/>
                <a:latin typeface="Arial"/>
              </a:rPr>
              <a:t>Choisis la réponse: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endant les vacances d’été: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J’ai nourri les animaux.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Je me suis promené dans le bois.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J’ai aidé mes grands-parents.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J’ai ramassé des champignons.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J’ai rencontré mes amis.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</p:txBody>
      </p:sp>
      <p:graphicFrame>
        <p:nvGraphicFramePr>
          <p:cNvPr id="123" name="Object 9"/>
          <p:cNvGraphicFramePr/>
          <p:nvPr/>
        </p:nvGraphicFramePr>
        <p:xfrm>
          <a:off x="5935680" y="1905120"/>
          <a:ext cx="1890720" cy="20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5680" y="1905120"/>
                    <a:ext cx="189072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Line 46"/>
          <p:cNvSpPr/>
          <p:nvPr/>
        </p:nvSpPr>
        <p:spPr>
          <a:xfrm flipV="1">
            <a:off x="6732720" y="2781000"/>
            <a:ext cx="360360" cy="43164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26" name="Line 47"/>
          <p:cNvSpPr/>
          <p:nvPr/>
        </p:nvSpPr>
        <p:spPr>
          <a:xfrm flipV="1">
            <a:off x="7451640" y="4292640"/>
            <a:ext cx="865440" cy="21600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27" name="Line 48"/>
          <p:cNvSpPr/>
          <p:nvPr/>
        </p:nvSpPr>
        <p:spPr>
          <a:xfrm flipH="1">
            <a:off x="5651640" y="4149720"/>
            <a:ext cx="504720" cy="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pic>
        <p:nvPicPr>
          <p:cNvPr id="128" name="Picture 17" descr="vive-les-vacances-campagne-1"/>
          <p:cNvPicPr/>
          <p:nvPr/>
        </p:nvPicPr>
        <p:blipFill>
          <a:blip r:embed="rId3"/>
          <a:stretch/>
        </p:blipFill>
        <p:spPr>
          <a:xfrm rot="21385200">
            <a:off x="6066000" y="2219400"/>
            <a:ext cx="265104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2960" y="6429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 Black"/>
              </a:rPr>
              <a:t>Comment raconter des événements passés? </a:t>
            </a:r>
            <a:endParaRPr b="1" lang="en-US" sz="2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90360" y="1928880"/>
            <a:ext cx="7581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On va apprendre ensemble! 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Règle: </a:t>
            </a:r>
            <a:r>
              <a:rPr b="0" lang="fr-CH" sz="3200" spc="-1" strike="noStrike" u="sng">
                <a:solidFill>
                  <a:srgbClr val="003366"/>
                </a:solidFill>
                <a:uFillTx/>
                <a:latin typeface="Arial"/>
              </a:rPr>
              <a:t>l’auxiliaire « avoir » + participe passé 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 u="sng">
                <a:solidFill>
                  <a:srgbClr val="003366"/>
                </a:solidFill>
                <a:uFillTx/>
                <a:latin typeface="Arial"/>
              </a:rPr>
              <a:t>J’ai mangé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 u="sng">
                <a:solidFill>
                  <a:srgbClr val="003366"/>
                </a:solidFill>
                <a:uFillTx/>
                <a:latin typeface="Arial"/>
              </a:rPr>
              <a:t>Tu as dessiné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 u="sng">
                <a:solidFill>
                  <a:srgbClr val="003366"/>
                </a:solidFill>
                <a:uFillTx/>
                <a:latin typeface="Arial"/>
              </a:rPr>
              <a:t>Vous avez travaillé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5572080" y="3500280"/>
            <a:ext cx="194328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1800" y="2428560"/>
            <a:ext cx="76359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TU ÉCRIS UNE LETTRE CHAQUE SEMAINE. </a:t>
            </a:r>
            <a:br>
              <a:rPr sz="2000"/>
            </a:b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NOUS AVONS MANGÉ DES CERISES. </a:t>
            </a:r>
            <a:br>
              <a:rPr sz="2000"/>
            </a:b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TU AS DESSINÉ LES ANIMAUX DE LA FERME. </a:t>
            </a:r>
            <a:br>
              <a:rPr sz="2000"/>
            </a:b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ILS ONT DANSÉ À LA FÊTE. </a:t>
            </a:r>
            <a:br>
              <a:rPr sz="2000"/>
            </a:b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ELLE A VOULU ALLER EN EXCURSION.  </a:t>
            </a:r>
            <a:br>
              <a:rPr sz="2000"/>
            </a:b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VOUS AVEZ BU DU JUS DE FRUITS. </a:t>
            </a:r>
            <a:br>
              <a:rPr sz="2000"/>
            </a:b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J’AI VOULU T’AIDER. </a:t>
            </a:r>
            <a:br>
              <a:rPr sz="2000"/>
            </a:b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TU AS FAIT UNE PROMENADE.  </a:t>
            </a:r>
            <a:br>
              <a:rPr sz="2000"/>
            </a:br>
            <a:br>
              <a:rPr sz="2000"/>
            </a:br>
            <a:r>
              <a:rPr b="1" lang="fr-CH" sz="2000" spc="-1" strike="noStrike">
                <a:solidFill>
                  <a:srgbClr val="006600"/>
                </a:solidFill>
                <a:latin typeface="Arial Black"/>
              </a:rPr>
              <a:t>POUR APPRENDRE PLUS DE CHOSES JE VOUS INVITE SUR LA PAGE WIKI DE VOTRE CLASSE: </a:t>
            </a:r>
            <a:r>
              <a:rPr b="1" lang="fr-CH" sz="1600" spc="-1" strike="noStrike">
                <a:solidFill>
                  <a:srgbClr val="c00000"/>
                </a:solidFill>
                <a:latin typeface="Arial Black"/>
              </a:rPr>
              <a:t>HTTP://LES-ECUREUILS-ECOLE-TUGLUI.WIKISPACES.COM/</a:t>
            </a:r>
            <a:br>
              <a:rPr sz="1600"/>
            </a:br>
            <a:br>
              <a:rPr sz="1600"/>
            </a:br>
            <a:br>
              <a:rPr sz="2000"/>
            </a:br>
            <a:endParaRPr b="1" lang="en-US" sz="16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28800" y="100008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 u="sng">
                <a:solidFill>
                  <a:srgbClr val="006600"/>
                </a:solidFill>
                <a:uFillTx/>
                <a:latin typeface="Arial"/>
              </a:rPr>
              <a:t>Maintenent c’est votre tour! Reconnaissez les verbes au passé composé: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10713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6600"/>
                </a:solidFill>
                <a:latin typeface="Arial Black"/>
              </a:rPr>
              <a:t>BON COURAGE!</a:t>
            </a: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4098960" y="3105000"/>
            <a:ext cx="240192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07:59:14Z</dcterms:created>
  <dc:creator>C14</dc:creator>
  <dc:description/>
  <dc:language>en-US</dc:language>
  <cp:lastModifiedBy>Claudia</cp:lastModifiedBy>
  <dcterms:modified xsi:type="dcterms:W3CDTF">2010-05-31T20:48:51Z</dcterms:modified>
  <cp:revision>26</cp:revision>
  <dc:subject/>
  <dc:title>QUI A PEUR DES ÉCUREUILS?</dc:title>
</cp:coreProperties>
</file>