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5281-3F0A-4D8C-BBC5-C36ECEF60FD1}" type="slidenum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189B-E406-4CC5-8B89-EE52D86A5225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2B9A-6460-4A52-B4EE-22F07CF63DE9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85D8-6C57-41AA-AB5C-94280EC626F6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3A5D-56C4-4642-9745-4EA5E1F0D0F6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4859-988D-4537-9F7E-BDF6BFC1DB54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F7AA-9FFD-487B-AF00-3ED5072FE862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79D1-F122-443E-AEAF-AE94753393A1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569C-5B78-4F94-B19C-A6172B38BF0E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E112-5101-420B-A6A6-73EB89D96C4C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D4E-8EF5-43B0-84A5-2BAABFFD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99B-9833-4DBE-85D1-754EE6DC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A91-4204-486F-B395-A25F230B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FC9-9637-49F9-B813-74B31029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7A31-65E0-44DF-9D73-C330FF2C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1B3C-CCC5-4D4C-8AA5-BF71AA49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FAE1-DBB2-437F-A0C8-3599A97F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56B1-3752-45F7-9ACD-1EB9E728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DCE4-3640-4FCB-A9F1-2428668F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8922-D786-4A30-B30F-B22A550C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C9FF-635A-4806-8096-57EF848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6C4-2275-48B8-95A3-5C5B4927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7894-942C-4151-88B6-267F6910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A61A-1F97-40C9-862A-075E2245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1B2F-639E-4881-B75A-EDD3FD33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227B-E048-48CB-8048-9F8A3C00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3D48-8C26-4266-A3BC-64FBE7F1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D8B-C8FB-4C51-A26B-19663FE9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6D2-BFBE-429F-B903-E05892EC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494-EAB5-4131-9AA2-1942EEE6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863-0667-4892-B892-47BD4DF2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115-29FD-41F1-BA6A-09201FFE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55C-2E88-40A3-815B-CD498CB8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1B5-6D31-46F1-A410-A3A1EE81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4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330B-7095-47B4-B239-B99C5FA001B7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4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1ff4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66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88C6-164D-44F2-AA11-537CD70B6E88}" type="slidenum">
              <a:rPr b="0" lang="ro-RO" sz="1400" spc="-1" strike="noStrike">
                <a:solidFill>
                  <a:srgbClr val="66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8000"/>
                </a:solidFill>
                <a:latin typeface="Comic Sans MS"/>
              </a:rPr>
              <a:t>QUI A PEUR DES 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É</a:t>
            </a:r>
            <a:r>
              <a:rPr b="1" i="1" lang="ro-RO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CUREUILS?</a:t>
            </a:r>
            <a:endParaRPr b="1" lang="en-US" sz="60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284720" y="4437000"/>
            <a:ext cx="4013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6699"/>
                </a:solidFill>
                <a:latin typeface="Arial"/>
              </a:rPr>
              <a:t>Prof. ROŞOGA ANCA IONELA</a:t>
            </a:r>
            <a:endParaRPr b="0" lang="en-US" sz="16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6699"/>
                </a:solidFill>
                <a:latin typeface="Arial"/>
              </a:rPr>
              <a:t>Şcoala cu clasele I-VIII Ţuglui</a:t>
            </a:r>
            <a:r>
              <a:rPr b="0" lang="ro-RO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07" name="Oval 5" descr=""/>
          <p:cNvPicPr/>
          <p:nvPr/>
        </p:nvPicPr>
        <p:blipFill>
          <a:blip r:embed="rId1"/>
          <a:stretch/>
        </p:blipFill>
        <p:spPr>
          <a:xfrm>
            <a:off x="596880" y="3621240"/>
            <a:ext cx="412740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000000"/>
                </a:solidFill>
                <a:latin typeface="Arial Unicode MS"/>
              </a:rPr>
              <a:t>Cum ar fi via</a:t>
            </a:r>
            <a:r>
              <a:rPr b="1" i="1" lang="ro-RO" sz="4400" spc="-1" strike="noStrike">
                <a:solidFill>
                  <a:srgbClr val="000000"/>
                </a:solidFill>
                <a:latin typeface="Arial Unicode MS"/>
              </a:rPr>
              <a:t>ţa noastră fără animale?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“</a:t>
            </a: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Les animaux sont des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mis tellement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gréables - ils n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posent jamais d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questions, ils ne font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ucune critique</a:t>
            </a:r>
            <a:r>
              <a:rPr b="1" lang="ro-RO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”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                 </a:t>
            </a:r>
            <a:r>
              <a:rPr b="1" i="1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George Eliot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6386400" y="2643120"/>
            <a:ext cx="16146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8000"/>
                </a:solidFill>
                <a:latin typeface="Arial Black"/>
              </a:rPr>
              <a:t>L’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é</a:t>
            </a:r>
            <a:r>
              <a:rPr b="1" lang="ro-RO" sz="4400" spc="-1" strike="noStrike">
                <a:solidFill>
                  <a:srgbClr val="008000"/>
                </a:solidFill>
                <a:latin typeface="Arial Black"/>
              </a:rPr>
              <a:t>cureuil 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600" y="1500120"/>
            <a:ext cx="514332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Dans le tronc d’un platane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e cache une caban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Un pet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reuil est assis sur le seuil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Il mange des cerises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ricote une chemise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ttaque les noisettes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Fait des gants, des chaussettes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00440" y="1341000"/>
            <a:ext cx="33447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vit l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reuil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Quels autres animaux de 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 connais-tu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t les animaux domestiques? Tu en connais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imes-tu faire des promenades dans 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3203640" y="4941720"/>
          <a:ext cx="111420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941720"/>
                    <a:ext cx="1114200" cy="1114560"/>
                  </a:xfrm>
                  <a:prstGeom prst="rect">
                    <a:avLst/>
                  </a:prstGeom>
                  <a:ln cap="rnd" w="9360">
                    <a:solidFill>
                      <a:srgbClr val="e0ff84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880" y="1928520"/>
            <a:ext cx="77724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DANS CETTE UNITÉ ON VA DEVENIR LES AMIS DES ANIMAUX.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ON VA ÉTUDIER ENSEMBLE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ANIMAUX DE LA FORÊT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ANIMAUX DOMESTIQUES 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ÉLÉMENTS CARACTÉRISTIQUES 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DU PAYSAGE RURAL</a:t>
            </a:r>
            <a:br>
              <a:rPr sz="2000"/>
            </a:br>
            <a:br>
              <a:rPr sz="2400"/>
            </a:br>
            <a:endParaRPr b="1" lang="en-US" sz="20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85880" y="64260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 u="sng">
                <a:solidFill>
                  <a:srgbClr val="006600"/>
                </a:solidFill>
                <a:uFillTx/>
                <a:latin typeface="Arial"/>
              </a:rPr>
              <a:t>Pourquoi aimes-tu les animaux?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715080" y="3643200"/>
            <a:ext cx="1614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 Black"/>
              </a:rPr>
              <a:t>Qui est fort en devinettes?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50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Qui chante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l’aube pour nous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eiller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est le meilleur ami de l’homme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porte un pyjama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vec mon lait on fait du fromage. Je meugle dans le p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en regardant le train passer. 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CH" sz="2800" spc="-1" strike="noStrike">
                <a:solidFill>
                  <a:srgbClr val="008000"/>
                </a:solidFill>
                <a:latin typeface="Arial Black"/>
                <a:ea typeface="Arial"/>
              </a:rPr>
              <a:t>Tu rêves aux vacances? Quels sont tes souvenirs?</a:t>
            </a:r>
            <a:endParaRPr b="1" lang="en-US" sz="28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9482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 u="sng">
                <a:solidFill>
                  <a:srgbClr val="000000"/>
                </a:solidFill>
                <a:uFillTx/>
                <a:latin typeface="Arial"/>
              </a:rPr>
              <a:t>Choisis la réponse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ndant les vacances d’été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nourri les animaux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e me suis promené dans le boi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aidé mes grands-parent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ramassé des champignon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rencontré mes ami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</p:txBody>
      </p:sp>
      <p:graphicFrame>
        <p:nvGraphicFramePr>
          <p:cNvPr id="123" name="Object 9"/>
          <p:cNvGraphicFramePr/>
          <p:nvPr/>
        </p:nvGraphicFramePr>
        <p:xfrm>
          <a:off x="5935680" y="1905120"/>
          <a:ext cx="1890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5680" y="1905120"/>
                    <a:ext cx="1890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46"/>
          <p:cNvSpPr/>
          <p:nvPr/>
        </p:nvSpPr>
        <p:spPr>
          <a:xfrm flipV="1">
            <a:off x="6732720" y="2781000"/>
            <a:ext cx="360360" cy="43164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26" name="Line 47"/>
          <p:cNvSpPr/>
          <p:nvPr/>
        </p:nvSpPr>
        <p:spPr>
          <a:xfrm flipV="1">
            <a:off x="7451640" y="4292640"/>
            <a:ext cx="865440" cy="216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27" name="Line 48"/>
          <p:cNvSpPr/>
          <p:nvPr/>
        </p:nvSpPr>
        <p:spPr>
          <a:xfrm flipH="1">
            <a:off x="5651640" y="4149720"/>
            <a:ext cx="50472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28" name="Picture 17" descr="vive-les-vacances-campagne-1"/>
          <p:cNvPicPr/>
          <p:nvPr/>
        </p:nvPicPr>
        <p:blipFill>
          <a:blip r:embed="rId3"/>
          <a:stretch/>
        </p:blipFill>
        <p:spPr>
          <a:xfrm rot="21385200">
            <a:off x="6066000" y="2219400"/>
            <a:ext cx="26510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Black"/>
              </a:rPr>
              <a:t>Comment raconter des événements passés? </a:t>
            </a:r>
            <a:endParaRPr b="1" lang="en-US" sz="2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360" y="1928880"/>
            <a:ext cx="7581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On va apprendre ensemble! 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ègle: </a:t>
            </a: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l’auxiliaire « avoir » + participe passé 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J’ai mang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Tu as dessin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Vous avez travaill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572080" y="3500280"/>
            <a:ext cx="19432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1800" y="2428560"/>
            <a:ext cx="7635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ÉCRIS UNE LETTRE CHAQUE SEMAIN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NOUS AVONS MANGÉ DES CERISES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AS DESSINÉ LES ANIMAUX DE LA FERM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ILS ONT DANSÉ À LA FÊT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ELLE A VOULU ALLER EN EXCURSION. 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VOUS AVEZ BU DU JUS DE FRUITS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J’AI VOULU T’AIDER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AS FAIT UNE PROMENADE.  </a:t>
            </a:r>
            <a:br>
              <a:rPr sz="2000"/>
            </a:br>
            <a:br>
              <a:rPr sz="2000"/>
            </a:br>
            <a:r>
              <a:rPr b="1" lang="fr-CH" sz="2000" spc="-1" strike="noStrike">
                <a:solidFill>
                  <a:srgbClr val="006600"/>
                </a:solidFill>
                <a:latin typeface="Arial Black"/>
              </a:rPr>
              <a:t>POUR APPRENDRE PLUS DE CHOSES JE VOUS INVITE SUR LA PAGE WIKI DE VOTRE CLASSE: </a:t>
            </a:r>
            <a:r>
              <a:rPr b="1" lang="fr-CH" sz="1600" spc="-1" strike="noStrike">
                <a:solidFill>
                  <a:srgbClr val="c00000"/>
                </a:solidFill>
                <a:latin typeface="Arial Black"/>
              </a:rPr>
              <a:t>HTTP://LES-ECUREUILS-ECOLE-TUGLUI.WIKISPACES.COM/</a:t>
            </a:r>
            <a:br>
              <a:rPr sz="1600"/>
            </a:br>
            <a:br>
              <a:rPr sz="1600"/>
            </a:br>
            <a:br>
              <a:rPr sz="2000"/>
            </a:br>
            <a:endParaRPr b="1" lang="en-US" sz="16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0000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 u="sng">
                <a:solidFill>
                  <a:srgbClr val="006600"/>
                </a:solidFill>
                <a:uFillTx/>
                <a:latin typeface="Arial"/>
              </a:rPr>
              <a:t>Maintenent c’est votre tour! Reconnaissez les verbes au passé composé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6600"/>
                </a:solidFill>
                <a:latin typeface="Arial Black"/>
              </a:rPr>
              <a:t>BON COURAGE!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98960" y="3105000"/>
            <a:ext cx="24019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7:59:14Z</dcterms:created>
  <dc:creator>C14</dc:creator>
  <dc:description/>
  <dc:language>en-US</dc:language>
  <cp:lastModifiedBy>Claudia</cp:lastModifiedBy>
  <dcterms:modified xsi:type="dcterms:W3CDTF">2010-05-31T20:48:51Z</dcterms:modified>
  <cp:revision>26</cp:revision>
  <dc:subject/>
  <dc:title>QUI A PEUR DES ÉCUREUILS?</dc:title>
</cp:coreProperties>
</file>