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ff9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C343-95F3-4D75-A71D-0922EC58125E}" type="slidenum"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6F8D-B974-4EF7-A1E3-21C320CE9510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862C-9F2C-40BE-9903-2E11E38098A3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8565-ED31-403E-A216-E4933BF2C8F4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D399-AC5A-4BB8-9C60-8FE92C03DE12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1B7E-A487-4876-B402-68690525D2E9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F22C-4EC7-405B-8783-854BFD6FCFB7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5B78-828C-4764-925F-5AE4FEDB6F0F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8BF3-7CE3-4282-AEEF-0189D4C1664E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02C3-3482-4632-A812-98266C938098}" type="slidenum">
              <a:rPr b="0" lang="fr-CH" sz="1200" spc="-1" strike="noStrike">
                <a:solidFill>
                  <a:srgbClr val="66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64EC-F808-45F2-A2D6-C9590365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CBE-56D7-4D4F-A161-CE95C58C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BC0-83D8-439E-9CEF-7D9A7F1B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EB3-C867-449C-9CDD-13B6A925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02EF-19E7-467C-A6EF-516A7F15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6BAE-BA64-43DE-9963-E9124678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9EB0-7107-4094-85C0-C710A5F1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F8EC-FB4C-416F-B886-703B243C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E2AC-F4D5-464E-96E9-92B0DC6D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390C-1346-435D-9577-88B82DE7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B0DC-7DB4-4520-8342-01A342B3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0655-99EA-46D2-8A9F-FD9962DF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542E-AA08-479C-B6E1-CC21BE53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E916-8965-4264-9217-C4726E28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5D2F-B193-423A-8BE9-B88EE885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4368-1B16-4AA5-94E3-F414D52D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D779-93D8-4907-AA9E-9C8B742F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88D-9123-4146-BAAA-0A7B2A8F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903-71B7-4965-9342-26224C44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AD5-CCAE-41F6-B74D-9588FFE8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1CE-F3F6-417D-B219-EADFFE00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3E65-BDBC-4A98-9539-92884637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E29-7E27-455B-8A42-8C10C679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620-A99A-4D98-B9BC-10B03C1B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84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1ff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1ff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8637-8031-4F2E-BEF6-5D4ABE56D7C3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ff9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84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1ff4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1ff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1ff47">
                    <a:alpha val="0"/>
                  </a:srgbClr>
                </a:gs>
                <a:gs pos="100000">
                  <a:srgbClr val="abd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7ff5d"/>
                </a:gs>
                <a:gs pos="100000">
                  <a:srgbClr val="d1ff4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ff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ff9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66ff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4ADB-9F09-405E-95EB-0583D90F1770}" type="slidenum">
              <a:rPr b="0" lang="ro-RO" sz="1400" spc="-1" strike="noStrike">
                <a:solidFill>
                  <a:srgbClr val="66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6000" spc="-1" strike="noStrike">
                <a:solidFill>
                  <a:srgbClr val="008000"/>
                </a:solidFill>
                <a:latin typeface="Comic Sans MS"/>
              </a:rPr>
              <a:t>QUI A PEUR DES </a:t>
            </a:r>
            <a:r>
              <a:rPr b="1" i="1" lang="en-US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É</a:t>
            </a:r>
            <a:r>
              <a:rPr b="1" i="1" lang="ro-RO" sz="6000" spc="-1" strike="noStrike">
                <a:solidFill>
                  <a:srgbClr val="008000"/>
                </a:solidFill>
                <a:latin typeface="Comic Sans MS"/>
                <a:ea typeface="Arial"/>
              </a:rPr>
              <a:t>CUREUILS?</a:t>
            </a:r>
            <a:endParaRPr b="1" lang="en-US" sz="60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284720" y="4437000"/>
            <a:ext cx="40132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6699"/>
                </a:solidFill>
                <a:latin typeface="Arial"/>
              </a:rPr>
              <a:t>Prof. ROŞOGA ANCA IONELA</a:t>
            </a:r>
            <a:endParaRPr b="0" lang="en-US" sz="16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6699"/>
                </a:solidFill>
                <a:latin typeface="Arial"/>
              </a:rPr>
              <a:t>Şcoala cu clasele I-VIII Ţuglui</a:t>
            </a:r>
            <a:r>
              <a:rPr b="0" lang="ro-RO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07" name="Oval 5" descr=""/>
          <p:cNvPicPr/>
          <p:nvPr/>
        </p:nvPicPr>
        <p:blipFill>
          <a:blip r:embed="rId1"/>
          <a:stretch/>
        </p:blipFill>
        <p:spPr>
          <a:xfrm>
            <a:off x="596880" y="3621240"/>
            <a:ext cx="4127400" cy="21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400" spc="-1" strike="noStrike">
                <a:solidFill>
                  <a:srgbClr val="000000"/>
                </a:solidFill>
                <a:latin typeface="Arial Unicode MS"/>
              </a:rPr>
              <a:t>Cum ar fi via</a:t>
            </a:r>
            <a:r>
              <a:rPr b="1" i="1" lang="ro-RO" sz="4400" spc="-1" strike="noStrike">
                <a:solidFill>
                  <a:srgbClr val="000000"/>
                </a:solidFill>
                <a:latin typeface="Arial Unicode MS"/>
              </a:rPr>
              <a:t>ţa noastră fără animale?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stellar"/>
                <a:ea typeface="Aharoni"/>
              </a:rPr>
              <a:t>“</a:t>
            </a: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Les animaux sont des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amis tellement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agréables - ils ne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posent jamais de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questions, ils ne font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aucune critique</a:t>
            </a:r>
            <a:r>
              <a:rPr b="1" lang="ro-RO" sz="2000" spc="-1" strike="noStrike">
                <a:solidFill>
                  <a:srgbClr val="000000"/>
                </a:solidFill>
                <a:latin typeface="Copperplate Gothic Bold"/>
                <a:ea typeface="Aharoni"/>
              </a:rPr>
              <a:t>”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stellar"/>
                <a:ea typeface="Aharoni"/>
              </a:rPr>
              <a:t>                 </a:t>
            </a:r>
            <a:r>
              <a:rPr b="1" i="1" lang="ro-RO" sz="2000" spc="-1" strike="noStrike">
                <a:solidFill>
                  <a:srgbClr val="000000"/>
                </a:solidFill>
                <a:latin typeface="Castellar"/>
                <a:ea typeface="Aharoni"/>
              </a:rPr>
              <a:t>George Eliot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6386400" y="2643120"/>
            <a:ext cx="16146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8000"/>
                </a:solidFill>
                <a:latin typeface="Arial Black"/>
              </a:rPr>
              <a:t>L’</a:t>
            </a: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é</a:t>
            </a:r>
            <a:r>
              <a:rPr b="1" lang="ro-RO" sz="4400" spc="-1" strike="noStrike">
                <a:solidFill>
                  <a:srgbClr val="008000"/>
                </a:solidFill>
                <a:latin typeface="Arial Black"/>
              </a:rPr>
              <a:t>cureuil 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600" y="1500120"/>
            <a:ext cx="514332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Dans le tronc d’un platane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Se cache une cabane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Un pet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ureuil est assis sur le seuil.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Il mange des cerises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Tricote une chemise.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Attaque les noisettes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Fait des gants, des chaussettes.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00440" y="1341000"/>
            <a:ext cx="33447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vit l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ureuil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Quels autres animaux de la 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t connais-tu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t les animaux domestiques? Tu en connais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Aimes-tu faire des promenades dans la 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ê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?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3203640" y="4941720"/>
          <a:ext cx="1114200" cy="11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941720"/>
                    <a:ext cx="1114200" cy="1114560"/>
                  </a:xfrm>
                  <a:prstGeom prst="rect">
                    <a:avLst/>
                  </a:prstGeom>
                  <a:ln cap="rnd" w="9360">
                    <a:solidFill>
                      <a:srgbClr val="e0ff84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5880" y="1928520"/>
            <a:ext cx="77724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DANS CETTE UNITÉ ON VA DEVENIR LES AMIS DES ANIMAUX.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ON VA ÉTUDIER ENSEMBLE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LES ANIMAUX DE LA FORÊT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LES ANIMAUX DOMESTIQUES 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LES ÉLÉMENTS CARACTÉRISTIQUES </a:t>
            </a:r>
            <a:br>
              <a:rPr sz="2000"/>
            </a:br>
            <a:r>
              <a:rPr b="0" lang="fr-CH" sz="2000" spc="-1" strike="noStrike">
                <a:solidFill>
                  <a:srgbClr val="000000"/>
                </a:solidFill>
                <a:latin typeface="Arial Black"/>
              </a:rPr>
              <a:t>DU PAYSAGE RURAL</a:t>
            </a:r>
            <a:br>
              <a:rPr sz="2000"/>
            </a:br>
            <a:br>
              <a:rPr sz="2400"/>
            </a:br>
            <a:endParaRPr b="1" lang="en-US" sz="20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85880" y="64260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 u="sng">
                <a:solidFill>
                  <a:srgbClr val="006600"/>
                </a:solidFill>
                <a:uFillTx/>
                <a:latin typeface="Arial"/>
              </a:rPr>
              <a:t>Pourquoi aimes-tu les animaux?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715080" y="3643200"/>
            <a:ext cx="1614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 Black"/>
              </a:rPr>
              <a:t>Qui est fort en devinettes?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450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Qui chante 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l’aube pour nous 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veiller?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animal est le meilleur ami de l’homme?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Quel animal porte un pyjama?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vec mon lait on fait du fromage. Je meugle dans le p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 en regardant le train passer. 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CH" sz="2800" spc="-1" strike="noStrike">
                <a:solidFill>
                  <a:srgbClr val="008000"/>
                </a:solidFill>
                <a:latin typeface="Arial Black"/>
                <a:ea typeface="Arial"/>
              </a:rPr>
              <a:t>Tu rêves aux vacances? Quels sont tes souvenirs?</a:t>
            </a:r>
            <a:endParaRPr b="1" lang="en-US" sz="28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9482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 u="sng">
                <a:solidFill>
                  <a:srgbClr val="000000"/>
                </a:solidFill>
                <a:uFillTx/>
                <a:latin typeface="Arial"/>
              </a:rPr>
              <a:t>Choisis la réponse: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endant les vacances d’été: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nourri les animaux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e me suis promené dans le boi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aidé mes grands-parent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ramassé des champignon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J’ai rencontré mes amis.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</p:txBody>
      </p:sp>
      <p:graphicFrame>
        <p:nvGraphicFramePr>
          <p:cNvPr id="123" name="Object 9"/>
          <p:cNvGraphicFramePr/>
          <p:nvPr/>
        </p:nvGraphicFramePr>
        <p:xfrm>
          <a:off x="5935680" y="1905120"/>
          <a:ext cx="189072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5680" y="1905120"/>
                    <a:ext cx="18907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Line 46"/>
          <p:cNvSpPr/>
          <p:nvPr/>
        </p:nvSpPr>
        <p:spPr>
          <a:xfrm flipV="1">
            <a:off x="6732720" y="2781000"/>
            <a:ext cx="360360" cy="43164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26" name="Line 47"/>
          <p:cNvSpPr/>
          <p:nvPr/>
        </p:nvSpPr>
        <p:spPr>
          <a:xfrm flipV="1">
            <a:off x="7451640" y="4292640"/>
            <a:ext cx="865440" cy="2160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27" name="Line 48"/>
          <p:cNvSpPr/>
          <p:nvPr/>
        </p:nvSpPr>
        <p:spPr>
          <a:xfrm flipH="1">
            <a:off x="5651640" y="4149720"/>
            <a:ext cx="50472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28" name="Picture 17" descr="vive-les-vacances-campagne-1"/>
          <p:cNvPicPr/>
          <p:nvPr/>
        </p:nvPicPr>
        <p:blipFill>
          <a:blip r:embed="rId3"/>
          <a:stretch/>
        </p:blipFill>
        <p:spPr>
          <a:xfrm rot="21385200">
            <a:off x="6066000" y="2219400"/>
            <a:ext cx="26510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 Black"/>
              </a:rPr>
              <a:t>Comment raconter des événements passés? </a:t>
            </a:r>
            <a:endParaRPr b="1" lang="en-US" sz="24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360" y="1928880"/>
            <a:ext cx="7581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On va apprendre ensemble! 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Règle: </a:t>
            </a: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l’auxiliaire « avoir » + participe passé 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J’ai mangé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Tu as dessiné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3366"/>
                </a:solidFill>
                <a:uFillTx/>
                <a:latin typeface="Arial"/>
              </a:rPr>
              <a:t>Vous avez travaillé</a:t>
            </a: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66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5572080" y="3500280"/>
            <a:ext cx="194328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1800" y="2428560"/>
            <a:ext cx="7635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TU ÉCRIS UNE LETTRE CHAQUE SEMAINE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NOUS AVONS MANGÉ DES CERISES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TU AS DESSINÉ LES ANIMAUX DE LA FERME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ILS ONT DANSÉ À LA FÊTE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ELLE A VOULU ALLER EN EXCURSION. 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VOUS AVEZ BU DU JUS DE FRUITS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J’AI VOULU T’AIDER. </a:t>
            </a:r>
            <a:br>
              <a:rPr sz="2000"/>
            </a:br>
            <a:r>
              <a:rPr b="1" lang="fr-CH" sz="2000" spc="-1" strike="noStrike">
                <a:solidFill>
                  <a:srgbClr val="000000"/>
                </a:solidFill>
                <a:latin typeface="Arial Black"/>
              </a:rPr>
              <a:t>TU AS FAIT UNE PROMENADE.  </a:t>
            </a:r>
            <a:br>
              <a:rPr sz="2000"/>
            </a:br>
            <a:br>
              <a:rPr sz="2000"/>
            </a:br>
            <a:r>
              <a:rPr b="1" lang="fr-CH" sz="2000" spc="-1" strike="noStrike">
                <a:solidFill>
                  <a:srgbClr val="006600"/>
                </a:solidFill>
                <a:latin typeface="Arial Black"/>
              </a:rPr>
              <a:t>POUR APPRENDRE PLUS DE CHOSES JE VOUS INVITE SUR LA PAGE WIKI DE VOTRE CLASSE: </a:t>
            </a:r>
            <a:r>
              <a:rPr b="1" lang="fr-CH" sz="1600" spc="-1" strike="noStrike">
                <a:solidFill>
                  <a:srgbClr val="c00000"/>
                </a:solidFill>
                <a:latin typeface="Arial Black"/>
              </a:rPr>
              <a:t>HTTP://LES-ECUREUILS-ECOLE-TUGLUI.WIKISPACES.COM/</a:t>
            </a:r>
            <a:br>
              <a:rPr sz="1600"/>
            </a:br>
            <a:br>
              <a:rPr sz="1600"/>
            </a:br>
            <a:br>
              <a:rPr sz="2000"/>
            </a:br>
            <a:endParaRPr b="1" lang="en-US" sz="1600" spc="-1" strike="noStrike">
              <a:solidFill>
                <a:srgbClr val="e3ff9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0000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 u="sng">
                <a:solidFill>
                  <a:srgbClr val="006600"/>
                </a:solidFill>
                <a:uFillTx/>
                <a:latin typeface="Arial"/>
              </a:rPr>
              <a:t>Maintenent c’est votre tour! Reconnaissez les verbes au passé composé: </a:t>
            </a:r>
            <a:endParaRPr b="0" lang="en-US" sz="2800" spc="-1" strike="noStrike">
              <a:solidFill>
                <a:srgbClr val="66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6600"/>
                </a:solidFill>
                <a:latin typeface="Arial Black"/>
              </a:rPr>
              <a:t>BON COURAGE!</a:t>
            </a:r>
            <a:endParaRPr b="1" lang="en-US" sz="4400" spc="-1" strike="noStrike">
              <a:solidFill>
                <a:srgbClr val="e3ff90"/>
              </a:solidFill>
              <a:latin typeface="Arial Black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098960" y="3105000"/>
            <a:ext cx="24019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07:59:14Z</dcterms:created>
  <dc:creator>C14</dc:creator>
  <dc:description/>
  <dc:language>en-US</dc:language>
  <cp:lastModifiedBy>Claudia</cp:lastModifiedBy>
  <dcterms:modified xsi:type="dcterms:W3CDTF">2010-05-31T20:48:51Z</dcterms:modified>
  <cp:revision>26</cp:revision>
  <dc:subject/>
  <dc:title>QUI A PEUR DES ÉCUREUILS?</dc:title>
</cp:coreProperties>
</file>