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A34-4DC9-4191-84C1-A589E6F37C68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F7A9-B66C-420E-B1AE-53F53F8EDA6B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512-C3DA-47B4-8E0B-F607418C84B1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031B-F796-4839-B0B2-D737AF5C83D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F58-FB1F-4195-BE86-E27F4D93EEEF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0B78-6182-4E1D-B722-3562F50A26F5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8B1-77BB-4D9B-9BAF-453634E54BB1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C679-2420-4104-90B0-9676B0F0E63A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A2C-1DAC-4BB6-AC33-0A7508463AAB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1D0-333E-45BB-8770-AE07763CF88A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458-EBA9-4732-A9CA-D937C388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A05-7654-414D-8CBD-D929986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DB3-7927-4968-8968-1D3C39E5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D19-70D7-4B65-B321-C462C973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1CF8-8ED3-4F74-B64E-18BF994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F88-1ECC-4F51-9B5B-8BDAE38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2BB8-F1F0-422B-BFD3-88E4577B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06AC-6F04-41C0-8953-922056C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720-C856-4459-9DCE-BBFD7077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DD03-F82B-49AA-86DB-1DDB6315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DAF8-733D-4DF3-98CB-28259BB4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D43-7777-4DBE-A6DA-AF201254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49BA-82AA-4605-A6A6-C9452C3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91E-0CDF-4850-A256-2557145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EBED-6AE7-4FE9-A673-CD01C516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B4F-752B-482B-A2F4-862484FD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8E04-17E8-435D-BBD9-594238DF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181-A0C3-4BA6-B42D-C6B6458D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863-4594-4909-B964-5FE45BAC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A35-26A5-4A06-8558-7CA2CE9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50C-BC6B-46CE-8F90-D0BF4E86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941-EEB5-4B8D-98FD-7D776B8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FB2-66A6-4176-8ABE-96F790F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459-814B-4F6F-92DA-ED1CE1A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A3DB-D80E-4B54-8EE2-905F21BA754E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1ff4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E72-5EB2-4848-B6C6-C6642A567BF8}" type="slidenum">
              <a:rPr b="0" lang="ro-RO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ro-RO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07" name="Oval 5" descr=""/>
          <p:cNvPicPr/>
          <p:nvPr/>
        </p:nvPicPr>
        <p:blipFill>
          <a:blip r:embed="rId1"/>
          <a:stretch/>
        </p:blipFill>
        <p:spPr>
          <a:xfrm>
            <a:off x="596880" y="3621240"/>
            <a:ext cx="41274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000000"/>
                </a:solidFill>
                <a:latin typeface="Arial Unicode MS"/>
              </a:rPr>
              <a:t>Cum ar fi via</a:t>
            </a:r>
            <a:r>
              <a:rPr b="1" i="1" lang="ro-RO" sz="4400" spc="-1" strike="noStrike">
                <a:solidFill>
                  <a:srgbClr val="000000"/>
                </a:solidFill>
                <a:latin typeface="Arial Unicode MS"/>
              </a:rPr>
              <a:t>ţa noastră fără animale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“</a:t>
            </a: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Les animaux sont d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mis tellement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gréables - ils 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posent jamais d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questions, ils ne fon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ucune critique</a:t>
            </a:r>
            <a:r>
              <a:rPr b="1" lang="ro-RO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”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George Elio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6386400" y="2643120"/>
            <a:ext cx="16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514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0440" y="1341000"/>
            <a:ext cx="3344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-tu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imes-tu faire des promenades dans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e0ff84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ANS CETTE UNITÉ ON VA DEVENIR LES AMIS DES ANIMAUX.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ON VA ÉTUDIER ENSEMBL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E LA FORÊT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OMESTIQUES 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ÉLÉMENTS CARACTÉRISTIQUES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U PAYSAGE RURAL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 u="sng">
                <a:solidFill>
                  <a:srgbClr val="006600"/>
                </a:solidFill>
                <a:uFillTx/>
                <a:latin typeface="Arial"/>
              </a:rPr>
              <a:t>Pourquoi aimes-tu les animaux?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715080" y="3643200"/>
            <a:ext cx="1614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est le meilleur ami de l’homme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CH" sz="2800" spc="-1" strike="noStrike">
                <a:solidFill>
                  <a:srgbClr val="008000"/>
                </a:solidFill>
                <a:latin typeface="Arial Black"/>
                <a:ea typeface="Arial"/>
              </a:rPr>
              <a:t>Tu rêves aux vacances? Quels sont tes souvenirs?</a:t>
            </a:r>
            <a:endParaRPr b="1" lang="en-US" sz="28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48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Choisis la réponse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les vacances d’ét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nourri les animaux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e me suis promené dans le bo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aidé mes grands-parent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amassé des champignon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encontré mes am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46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6" name="Line 47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28" name="Picture 17" descr="vive-les-vacances-campagne-1"/>
          <p:cNvPicPr/>
          <p:nvPr/>
        </p:nvPicPr>
        <p:blipFill>
          <a:blip r:embed="rId3"/>
          <a:stretch/>
        </p:blipFill>
        <p:spPr>
          <a:xfrm rot="21385200">
            <a:off x="6066000" y="2219400"/>
            <a:ext cx="2651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Black"/>
              </a:rPr>
              <a:t>Comment raconter des événements passés? </a:t>
            </a:r>
            <a:endParaRPr b="1" lang="en-US" sz="2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192888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 va apprendre ensemble!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ègle: </a:t>
            </a: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l’auxiliaire « avoir » + participe passé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J’ai mang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Tu as dessin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Vous avez travaill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19432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1800" y="2428560"/>
            <a:ext cx="76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ÉCRIS UNE LETTRE CHAQUE SEMAIN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NOUS AVONS MANGÉ DES CERISE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DESSINÉ LES ANIMAUX DE LA FERM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ILS ONT DANSÉ À LA FÊT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ELLE A VOULU ALLER EN EXCURSION. 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VOUS AVEZ BU DU JUS DE FRUIT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J’AI VOULU T’AIDER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FAIT UNE PROMENADE.  </a:t>
            </a:r>
            <a:br>
              <a:rPr sz="2000"/>
            </a:br>
            <a:br>
              <a:rPr sz="2000"/>
            </a:br>
            <a:r>
              <a:rPr b="1" lang="fr-CH" sz="2000" spc="-1" strike="noStrike">
                <a:solidFill>
                  <a:srgbClr val="006600"/>
                </a:solidFill>
                <a:latin typeface="Arial Black"/>
              </a:rPr>
              <a:t>POUR APPRENDRE PLUS DE CHOSES JE VOUS INVITE SUR LA PAGE WIKI DE VOTRE CLASSE: </a:t>
            </a:r>
            <a:r>
              <a:rPr b="1" lang="fr-CH" sz="1600" spc="-1" strike="noStrike">
                <a:solidFill>
                  <a:srgbClr val="c00000"/>
                </a:solidFill>
                <a:latin typeface="Arial Black"/>
              </a:rPr>
              <a:t>HTTP://LES-ECUREUILS-ECOLE-TUGLUI.WIKISPACES.COM/</a:t>
            </a:r>
            <a:br>
              <a:rPr sz="1600"/>
            </a:br>
            <a:br>
              <a:rPr sz="1600"/>
            </a:br>
            <a:br>
              <a:rPr sz="2000"/>
            </a:br>
            <a:endParaRPr b="1" lang="en-US" sz="16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6600"/>
                </a:solidFill>
                <a:uFillTx/>
                <a:latin typeface="Arial"/>
              </a:rPr>
              <a:t>Maintenent c’est votre tour! Reconnaissez les verbes au passé compos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6600"/>
                </a:solidFill>
                <a:latin typeface="Arial Black"/>
              </a:rPr>
              <a:t>BON COURAGE!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98960" y="3105000"/>
            <a:ext cx="2401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laudia</cp:lastModifiedBy>
  <dcterms:modified xsi:type="dcterms:W3CDTF">2010-05-31T20:48:51Z</dcterms:modified>
  <cp:revision>26</cp:revision>
  <dc:subject/>
  <dc:title>QUI A PEUR DES ÉCUREUILS?</dc:title>
</cp:coreProperties>
</file>